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34.png" ContentType="image/png"/>
  <Override PartName="/ppt/media/image7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26.jpeg" ContentType="image/jpeg"/>
  <Override PartName="/ppt/media/image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.jpeg" ContentType="image/jpeg"/>
  <Override PartName="/ppt/media/image23.jpeg" ContentType="image/jpeg"/>
  <Override PartName="/ppt/media/image39.png" ContentType="image/png"/>
  <Override PartName="/ppt/media/image22.jpeg" ContentType="image/jpeg"/>
  <Override PartName="/ppt/media/image51.jpeg" ContentType="image/jpeg"/>
  <Override PartName="/ppt/media/image24.jpeg" ContentType="image/jpeg"/>
  <Override PartName="/ppt/media/image59.png" ContentType="image/png"/>
  <Override PartName="/ppt/media/image19.jpeg" ContentType="image/jpeg"/>
  <Override PartName="/ppt/media/image42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png" ContentType="image/png"/>
  <Override PartName="/ppt/media/image31.jpeg" ContentType="image/jpeg"/>
  <Override PartName="/ppt/media/image32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5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CB78-BBAA-4D16-BA0A-5543908425E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9391-21A9-44C4-9582-FED5C1FF61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126A-2C09-49D4-B5FD-A33FEE9E94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4DFE-556E-4E8A-950D-B95ACA2B630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B138-F99F-4BA8-AF13-BD8481A0A14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0B54-8EBF-4E16-AED3-26FACC0285D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F4E0-E413-4619-AFA2-30EBC761B4F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0B46-83B7-42D6-BF82-E4424B287E6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C254-9028-428E-9317-F32E747A4B4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6276-8C9E-45C4-9DFD-DBB697C27DB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0F59-2753-4602-A50A-0D423A3C58A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EC9B-27E4-48E3-AF78-F14CE583A97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B5F9-C560-4DDC-B391-3A2202C802E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51A4-0107-49FA-AE2A-3D08B047224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5DAC-D9A9-49A6-9939-ED2E4AF72ED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72F5-671A-4C7A-9BC1-4DD99E1B276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41A9-496C-443D-86BB-39192E1B219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4731-C00F-46B5-AA27-D1B22D2B6E7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49B0-A134-4016-844F-654FE949A55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A4B2-32CD-40A8-82E1-5F4E2E8B920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B59A-4480-443E-985F-463D758DDD2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1DFA-39F0-4643-8E50-B9CF7AF8F4C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065F-5E23-4C12-B802-C3C9408096D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50A2-19F8-443D-8D4B-3B9F9BDD7F1E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44F3-9B89-4996-8680-5B9E50EEF0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4E62-F32F-4DBC-9EDC-92C606A115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6E9E-9159-406A-8429-A0E17EC037F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ADD0-79FD-4266-ADB1-14F4D16CE6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8AFF-D50C-4979-8459-6148E951D4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395-2F65-459C-AB6D-30B2D3B3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6CD-7923-4E82-B096-9033DF1D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165-9CFF-4E90-8E41-B579C6CD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556-31C6-4C6A-A8E1-2B17D145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9D2-3F36-4EFD-A992-497BADC1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528-7165-4723-85B6-403F3193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659-EF33-4C2D-BA47-AF96EF96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DA1-8261-4826-8BDD-9D82F04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0E9-CED8-47C0-B9DF-B22866E3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F93-8554-41B2-9662-BD7980C3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07B-9DE0-4192-9964-D5AA6BC1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599-2CF0-4034-8982-A762346E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A9E3-F1E1-4916-8B38-10B547D5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D5F0-C7D5-422F-87CF-94F4EAE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A76C-28F3-45F2-88C2-84D62C64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099C-AB94-45A6-A3ED-3F1EB81D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A2FA-281C-4DED-BF6D-A10C4C0E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3932-696D-4AF1-8223-AA798D50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F680-C558-44D0-B0FB-BD41D0B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145-D50B-4BFB-B0EF-2D70D9A2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EE40-A68C-4CA0-A08F-9AFF37FF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AB32-CEB5-44EC-9518-5AE7ADA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78F0-13D1-494C-AB92-EDE51297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CF42-6C33-476C-A096-61BCEA49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838-F38A-4EB8-A5DA-FB0B32AC5453}" type="slidenum"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A512-15BE-41A3-A99A-85C90CA58761}" type="slidenum">
              <a:rPr b="0" lang="en-US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3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rcom.ac.uk/-docs/proceedings/ar2010-1487-1496_Poston_Emmanuel_and_Thomson.pdf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9720" y="3886200"/>
            <a:ext cx="72867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WP2 &amp; WP3 Activities by GCU Since PM6</a:t>
            </a:r>
            <a:endParaRPr b="1" lang="en-US" sz="32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7138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Calibri"/>
              </a:rPr>
              <a:t>PM7 – Umea </a:t>
            </a:r>
            <a:r>
              <a:rPr b="0" lang="en-GB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b0f0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b0f0"/>
                </a:solidFill>
                <a:latin typeface="Calibri"/>
              </a:rPr>
              <a:t>Mar 27, 2014       R Emmanuel </a:t>
            </a:r>
            <a:endParaRPr b="0" lang="en-US" sz="2400" spc="-1" strike="noStrike">
              <a:solidFill>
                <a:srgbClr val="0070c0"/>
              </a:solidFill>
              <a:latin typeface="Calibri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08000" y="6080040"/>
            <a:ext cx="8967600" cy="733680"/>
            <a:chOff x="108000" y="6080040"/>
            <a:chExt cx="8967600" cy="733680"/>
          </a:xfrm>
        </p:grpSpPr>
        <p:pic>
          <p:nvPicPr>
            <p:cNvPr id="344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080040"/>
              <a:ext cx="129600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" descr=""/>
            <p:cNvPicPr/>
            <p:nvPr/>
          </p:nvPicPr>
          <p:blipFill>
            <a:blip r:embed="rId2"/>
            <a:stretch/>
          </p:blipFill>
          <p:spPr>
            <a:xfrm>
              <a:off x="1685880" y="6152400"/>
              <a:ext cx="6537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3924000" y="6106320"/>
              <a:ext cx="2520000" cy="69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6516360" y="6251400"/>
              <a:ext cx="2559240" cy="562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920" y="364464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ustainable Building Materials Scotland (SBMS) Event </a:t>
            </a:r>
            <a:endParaRPr b="1" lang="en-US" sz="40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SBMS, 18 Mar 2014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ree exhibition and conference for producers and users of sustainable building materials, and anyone who would like to find out more about them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Meeting leading producers and users of sustainable building materials from Scotland and Northern Europe </a:t>
            </a:r>
            <a:endParaRPr b="0" lang="en-US" sz="26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Expert presentations on the benefits of using sustainable building materials </a:t>
            </a:r>
            <a:endParaRPr b="0" lang="en-US" sz="26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Hand on learning on how to use sustainable building products to improve homes and developments </a:t>
            </a:r>
            <a:endParaRPr b="0" lang="en-US" sz="26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alibri"/>
              </a:rPr>
              <a:t>One on one meetings with exhibitors</a:t>
            </a:r>
            <a:endParaRPr b="0" lang="en-US" sz="26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5DF0-0747-474D-8E4D-A645975FC629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407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Programme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496A-465A-40C2-8506-2E347C744C8B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414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18" name=""/>
          <p:cNvGraphicFramePr/>
          <p:nvPr/>
        </p:nvGraphicFramePr>
        <p:xfrm>
          <a:off x="1258920" y="1378080"/>
          <a:ext cx="6769080" cy="4848120"/>
        </p:xfrm>
        <a:graphic>
          <a:graphicData uri="http://schemas.openxmlformats.org/drawingml/2006/table">
            <a:tbl>
              <a:tblPr/>
              <a:tblGrid>
                <a:gridCol w="1117440"/>
                <a:gridCol w="935280"/>
                <a:gridCol w="1971720"/>
                <a:gridCol w="2744640"/>
              </a:tblGrid>
              <a:tr h="49032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/Ve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hibition 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ssion 1 - Best Practice in Sustainable Building Materi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Chap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ssion 2 – Growing the market for Sustainable Building Materi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GL Board Ro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:00 - 09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ation for exhibi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52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:30 - 1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hibition opens to the public. Welcome address from the NEES Project, Glasgow Caledonian University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:00 – 10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ta Goudie - Envirogla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ry Newman – Alliance for Sustainable Building Products – The need to develop standards for measuring embodied impa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:30 – 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idhlim Harty - Wetland Syst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m Woolley – Rachel Bevan Architects - Why should we build with natural, low impact, renewable building materials in Northern 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:00 – 12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ris Morgan – Locate Archit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e Roaf – Initiative for Carbon Accounting (ICARB) - Designing for Thermal Mass: Why and H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:00 - 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il Sutherland - Mak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ri McElroy – Architecture and Design Scotland – Introducing the A+DS Materials Libra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:30 - 13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4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:30 – 14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etings with exhibitors - The Chapel - advance booking need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:30 – 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hn Egan - Ecoc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ss Cairns – Chartered Institute of Architectural Technologists &amp; Inverness College - An Overview of the present selection of Sustainable Materials in Architectural Desig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:00 - 15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 Roslin - Ecological Architect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NEES Project – Glasgow Caledonian University – Workshop: Growing the market for sustainable building materi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:30 - 16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ichard Atkins - Atkins Archit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hn Easton – SUSTaim – Carbon accounting for sustainable building material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:00 - 16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enary session – The Chapel – Panel discussion chaired by Rohinton Emmanuel, The NEES Project, Glasgow Caledonian Univers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40">
                <a:tc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:30 - 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080" rIns="37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tworking and Clo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Photo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FE7-1F64-48F2-8187-9840DA8D355E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422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6" name="Picture 11" descr="P1040341.JPG"/>
          <p:cNvPicPr/>
          <p:nvPr/>
        </p:nvPicPr>
        <p:blipFill>
          <a:blip r:embed="rId5"/>
          <a:stretch/>
        </p:blipFill>
        <p:spPr>
          <a:xfrm>
            <a:off x="684360" y="1413000"/>
            <a:ext cx="2457360" cy="1828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2" descr="P1040391.JPG"/>
          <p:cNvPicPr/>
          <p:nvPr/>
        </p:nvPicPr>
        <p:blipFill>
          <a:blip r:embed="rId6"/>
          <a:stretch/>
        </p:blipFill>
        <p:spPr>
          <a:xfrm>
            <a:off x="3203640" y="1413000"/>
            <a:ext cx="2448000" cy="1828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P1040387.JPG"/>
          <p:cNvPicPr/>
          <p:nvPr/>
        </p:nvPicPr>
        <p:blipFill>
          <a:blip r:embed="rId7"/>
          <a:stretch/>
        </p:blipFill>
        <p:spPr>
          <a:xfrm>
            <a:off x="5724360" y="1413000"/>
            <a:ext cx="3165480" cy="4221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4" descr="P1040347.JPG"/>
          <p:cNvPicPr/>
          <p:nvPr/>
        </p:nvPicPr>
        <p:blipFill>
          <a:blip r:embed="rId8"/>
          <a:stretch/>
        </p:blipFill>
        <p:spPr>
          <a:xfrm>
            <a:off x="684360" y="328464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Photo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D259-32C8-4AE5-A63E-4744CBC8CABB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433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5" descr="P1040351.JPG"/>
          <p:cNvPicPr/>
          <p:nvPr/>
        </p:nvPicPr>
        <p:blipFill>
          <a:blip r:embed="rId5"/>
          <a:stretch/>
        </p:blipFill>
        <p:spPr>
          <a:xfrm>
            <a:off x="395280" y="1341360"/>
            <a:ext cx="2797200" cy="20923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6" descr="P1040362.JPG"/>
          <p:cNvPicPr/>
          <p:nvPr/>
        </p:nvPicPr>
        <p:blipFill>
          <a:blip r:embed="rId6"/>
          <a:stretch/>
        </p:blipFill>
        <p:spPr>
          <a:xfrm>
            <a:off x="3276720" y="1341360"/>
            <a:ext cx="1600200" cy="2114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7" descr="P1040367.JPG"/>
          <p:cNvPicPr/>
          <p:nvPr/>
        </p:nvPicPr>
        <p:blipFill>
          <a:blip r:embed="rId7"/>
          <a:stretch/>
        </p:blipFill>
        <p:spPr>
          <a:xfrm>
            <a:off x="4932360" y="1341360"/>
            <a:ext cx="1600200" cy="2114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9" descr="P1040352.JPG"/>
          <p:cNvPicPr/>
          <p:nvPr/>
        </p:nvPicPr>
        <p:blipFill>
          <a:blip r:embed="rId8"/>
          <a:stretch/>
        </p:blipFill>
        <p:spPr>
          <a:xfrm>
            <a:off x="395280" y="3500280"/>
            <a:ext cx="1836720" cy="2436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0" descr="P1040369.JPG"/>
          <p:cNvPicPr/>
          <p:nvPr/>
        </p:nvPicPr>
        <p:blipFill>
          <a:blip r:embed="rId9"/>
          <a:stretch/>
        </p:blipFill>
        <p:spPr>
          <a:xfrm>
            <a:off x="2303640" y="3500280"/>
            <a:ext cx="1836720" cy="2448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1" descr="P1040365.JPG"/>
          <p:cNvPicPr/>
          <p:nvPr/>
        </p:nvPicPr>
        <p:blipFill>
          <a:blip r:embed="rId10"/>
          <a:stretch/>
        </p:blipFill>
        <p:spPr>
          <a:xfrm>
            <a:off x="4211640" y="3500280"/>
            <a:ext cx="1836720" cy="24480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2" descr="P1040374.JPG"/>
          <p:cNvPicPr/>
          <p:nvPr/>
        </p:nvPicPr>
        <p:blipFill>
          <a:blip r:embed="rId11"/>
          <a:stretch/>
        </p:blipFill>
        <p:spPr>
          <a:xfrm>
            <a:off x="6156360" y="3500280"/>
            <a:ext cx="1835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58920" y="364464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arbon footprinting a BP</a:t>
            </a:r>
            <a:endParaRPr b="1" lang="en-US" sz="40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447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bri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Box 9"/>
          <p:cNvSpPr/>
          <p:nvPr/>
        </p:nvSpPr>
        <p:spPr>
          <a:xfrm>
            <a:off x="576360" y="1428840"/>
            <a:ext cx="4643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Produce an independently certified PAS 2050 product footpr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asgow Caledonian University: employ SUSTaim as the ass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nviroglass (the Shetland Amenity Trust): employ Carbon Trust as the independent verifier / cer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he project outputs: a digital tool / spreadsheet / database and a short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Footprint subject: a glasscrete paving slab with a high recycled glass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n output of the Natural Energy Efficiency and Sustainability (NEES)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http://www.shetlandamenity.org/assets/images/enlargeable/environmental-improvement/enviroglass/EnviroGlassPhotoShoot-0554-w960-h650.jpg"/>
          <p:cNvPicPr/>
          <p:nvPr/>
        </p:nvPicPr>
        <p:blipFill>
          <a:blip r:embed="rId1"/>
          <a:stretch/>
        </p:blipFill>
        <p:spPr>
          <a:xfrm>
            <a:off x="5219640" y="1413000"/>
            <a:ext cx="3267000" cy="4626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X:\NC05 Marketing\Image Library\Logos\CT_Working_Black.eps"/>
          <p:cNvPicPr/>
          <p:nvPr/>
        </p:nvPicPr>
        <p:blipFill>
          <a:blip r:embed="rId2"/>
          <a:srcRect l="0" t="12505" r="0" b="0"/>
          <a:stretch/>
        </p:blipFill>
        <p:spPr>
          <a:xfrm>
            <a:off x="6732720" y="1773360"/>
            <a:ext cx="1411200" cy="1008000"/>
          </a:xfrm>
          <a:prstGeom prst="rect">
            <a:avLst/>
          </a:prstGeom>
          <a:ln w="0">
            <a:noFill/>
          </a:ln>
        </p:spPr>
      </p:pic>
      <p:grpSp>
        <p:nvGrpSpPr>
          <p:cNvPr id="452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453" name="Picture 6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" descr=""/>
            <p:cNvPicPr/>
            <p:nvPr/>
          </p:nvPicPr>
          <p:blipFill>
            <a:blip r:embed="rId4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4" descr="NPP_logo_statement.gif"/>
            <p:cNvPicPr/>
            <p:nvPr/>
          </p:nvPicPr>
          <p:blipFill>
            <a:blip r:embed="rId5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5" descr="EUlogo.jpg"/>
            <p:cNvPicPr/>
            <p:nvPr/>
          </p:nvPicPr>
          <p:blipFill>
            <a:blip r:embed="rId6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6B60-0B60-45D3-BACA-B8C5F7E0D612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9"/>
          <p:cNvSpPr/>
          <p:nvPr/>
        </p:nvSpPr>
        <p:spPr>
          <a:xfrm>
            <a:off x="576360" y="1428840"/>
            <a:ext cx="60116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What PAS 2050 does, and how it does 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xplain building product footprinting and the PAS 2050 method in the context of Enviro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escribe some of the unique features and challenges of the Enviroglass foot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riefly discuss the case for local cradle to cradle remanufacturing as against conventional full closed loop recyc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he same PAS 2050 method has been used to footprint everything from a Samsung tablet to a Big 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461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entation Ai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3" name="Picture 10" descr="http://www.pcpro.co.uk/blogs/wp-content/uploads/2010/09/Samsung-Galaxy-Tab-in-hand-PC-Pro-homepage.jpg"/>
          <p:cNvPicPr/>
          <p:nvPr/>
        </p:nvPicPr>
        <p:blipFill>
          <a:blip r:embed="rId1"/>
          <a:stretch/>
        </p:blipFill>
        <p:spPr>
          <a:xfrm>
            <a:off x="6588000" y="1413000"/>
            <a:ext cx="1878120" cy="2303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2" descr="http://emoff.blog.terra.com.br/files/2012/07/bigmac.jpg"/>
          <p:cNvPicPr/>
          <p:nvPr/>
        </p:nvPicPr>
        <p:blipFill>
          <a:blip r:embed="rId2"/>
          <a:stretch/>
        </p:blipFill>
        <p:spPr>
          <a:xfrm>
            <a:off x="6588000" y="3860640"/>
            <a:ext cx="1874880" cy="223236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466" name="Picture 6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" descr=""/>
            <p:cNvPicPr/>
            <p:nvPr/>
          </p:nvPicPr>
          <p:blipFill>
            <a:blip r:embed="rId4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4" descr="NPP_logo_statement.gif"/>
            <p:cNvPicPr/>
            <p:nvPr/>
          </p:nvPicPr>
          <p:blipFill>
            <a:blip r:embed="rId5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5" descr="EUlogo.jpg"/>
            <p:cNvPicPr/>
            <p:nvPr/>
          </p:nvPicPr>
          <p:blipFill>
            <a:blip r:embed="rId6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7167-79FA-4294-B34A-270CF629F7CA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576360" y="1428840"/>
            <a:ext cx="6227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PAS 2050:2011 </a:t>
            </a:r>
            <a:r>
              <a:rPr b="0" i="1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Specification for the assessment of the life cycle greenhouse gas emissions of good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 publically accessible (free to use)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eveloped by the British Standards Institute (sponsored by Defra and Carbon Trust) in conjunction with extensive consultation from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 consistent method and process for assessing the  life cycle GHG emissions of good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ilds on existing methods established throug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S EN ISO 14040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(Environmental Management. Life Cycle Assessment. Principles and Framework)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S EN ISO 14044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(Environmental Management. Life Cycle Assessment. Requirements and Guidelin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474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hat is PAS 2050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9" descr="X:\NC05 Marketing\Image Library\Energy\airpollution[1].jpg"/>
          <p:cNvPicPr/>
          <p:nvPr/>
        </p:nvPicPr>
        <p:blipFill>
          <a:blip r:embed="rId1"/>
          <a:stretch/>
        </p:blipFill>
        <p:spPr>
          <a:xfrm>
            <a:off x="6948360" y="1413000"/>
            <a:ext cx="1511280" cy="2313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X:\NC05 Marketing\Image Library\Pollution\contamination_mainpic.jpg"/>
          <p:cNvPicPr/>
          <p:nvPr/>
        </p:nvPicPr>
        <p:blipFill>
          <a:blip r:embed="rId2"/>
          <a:stretch/>
        </p:blipFill>
        <p:spPr>
          <a:xfrm>
            <a:off x="6948360" y="3860640"/>
            <a:ext cx="1511280" cy="216072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479" name="Picture 6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"/>
            <p:cNvPicPr/>
            <p:nvPr/>
          </p:nvPicPr>
          <p:blipFill>
            <a:blip r:embed="rId4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4" descr="NPP_logo_statement.gif"/>
            <p:cNvPicPr/>
            <p:nvPr/>
          </p:nvPicPr>
          <p:blipFill>
            <a:blip r:embed="rId5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5" descr="EUlogo.jpg"/>
            <p:cNvPicPr/>
            <p:nvPr/>
          </p:nvPicPr>
          <p:blipFill>
            <a:blip r:embed="rId6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8C50-ECDD-4C57-8B60-AC5F12E4FE33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486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lly accredited PAS 2050 bod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9"/>
          <p:cNvSpPr/>
          <p:nvPr/>
        </p:nvSpPr>
        <p:spPr>
          <a:xfrm>
            <a:off x="576360" y="1428840"/>
            <a:ext cx="6227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Only four bodies can either assess, verify, or provide bo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99f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RM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“the worlds leading sustainability consultanc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99f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Carbon Trust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now an independent consult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99f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Bureau Verita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 world leading, professional compliance services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99f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LRQA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rovider of management system certification, verification an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6804000" y="1428840"/>
            <a:ext cx="1655640" cy="459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ERM"/>
          <p:cNvPicPr/>
          <p:nvPr/>
        </p:nvPicPr>
        <p:blipFill>
          <a:blip r:embed="rId1"/>
          <a:stretch/>
        </p:blipFill>
        <p:spPr>
          <a:xfrm>
            <a:off x="7392960" y="1700280"/>
            <a:ext cx="476280" cy="64764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0" descr="https://encrypted-tbn3.gstatic.com/images?q=tbn:ANd9GcTi7JmLjkF7CukGjwIpOXj2WzJMmlI_GKQQkoxfaX_E8EHaeBKWFA"/>
          <p:cNvPicPr/>
          <p:nvPr/>
        </p:nvPicPr>
        <p:blipFill>
          <a:blip r:embed="rId2"/>
          <a:stretch/>
        </p:blipFill>
        <p:spPr>
          <a:xfrm>
            <a:off x="7083360" y="2708280"/>
            <a:ext cx="1096920" cy="66672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12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4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6" descr="http://www.safety4sea.com/images/media/test/Bureau_Veritas_logo.jpg"/>
          <p:cNvPicPr/>
          <p:nvPr/>
        </p:nvPicPr>
        <p:blipFill>
          <a:blip r:embed="rId3"/>
          <a:stretch/>
        </p:blipFill>
        <p:spPr>
          <a:xfrm>
            <a:off x="7108920" y="3573360"/>
            <a:ext cx="936360" cy="11178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8" descr="https://si0.twimg.com/profile_images/2204368202/LRQARound.png"/>
          <p:cNvPicPr/>
          <p:nvPr/>
        </p:nvPicPr>
        <p:blipFill>
          <a:blip r:embed="rId4"/>
          <a:stretch/>
        </p:blipFill>
        <p:spPr>
          <a:xfrm>
            <a:off x="7153200" y="4869000"/>
            <a:ext cx="847800" cy="863640"/>
          </a:xfrm>
          <a:prstGeom prst="rect">
            <a:avLst/>
          </a:prstGeom>
          <a:ln w="0">
            <a:noFill/>
          </a:ln>
        </p:spPr>
      </p:pic>
      <p:grpSp>
        <p:nvGrpSpPr>
          <p:cNvPr id="498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499" name="Picture 6" descr="Glasgow_Caledonian_R#60E79E.jpg"/>
            <p:cNvPicPr/>
            <p:nvPr/>
          </p:nvPicPr>
          <p:blipFill>
            <a:blip r:embed="rId5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2" descr=""/>
            <p:cNvPicPr/>
            <p:nvPr/>
          </p:nvPicPr>
          <p:blipFill>
            <a:blip r:embed="rId6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4" descr="NPP_logo_statement.gif"/>
            <p:cNvPicPr/>
            <p:nvPr/>
          </p:nvPicPr>
          <p:blipFill>
            <a:blip r:embed="rId7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5" descr="EUlogo.jpg"/>
            <p:cNvPicPr/>
            <p:nvPr/>
          </p:nvPicPr>
          <p:blipFill>
            <a:blip r:embed="rId8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B193-C2A0-44D0-BA08-ADBE952F839D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Key events during reporting period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Future of sustainable building materials 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Future Footprints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Political representation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Cross Party Parliamentary Group on Architecture &amp; Built Env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Matchmaking/Promotion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Sustainable Building Materials Scotland event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Carbon Footprinting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Lessons from a BP footprinting exercise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351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0E3B-D6A9-4CC5-82C9-073A1543CA27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9"/>
          <p:cNvSpPr/>
          <p:nvPr/>
        </p:nvSpPr>
        <p:spPr>
          <a:xfrm>
            <a:off x="576360" y="1428840"/>
            <a:ext cx="4752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The PAS 2050 protocol requi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rocess Map - build map of the product’s lif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oundaries and Prioritization - confirm boundaries and perform high level footprint calculations to prioritize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ata - collect data on material amounts, activities, and emission factors, across all life cycle stages (depends on B2C or B2B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Calculate - calculate the product carbon foot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Uncertainty - assess precision of the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507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PAS 2050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5329080" y="1428840"/>
            <a:ext cx="3130560" cy="458316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511" name="Picture 6" descr="Glasgow_Caledonian_R#60E79E.jpg"/>
            <p:cNvPicPr/>
            <p:nvPr/>
          </p:nvPicPr>
          <p:blipFill>
            <a:blip r:embed="rId2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2" descr=""/>
            <p:cNvPicPr/>
            <p:nvPr/>
          </p:nvPicPr>
          <p:blipFill>
            <a:blip r:embed="rId3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4" descr="NPP_logo_statement.gif"/>
            <p:cNvPicPr/>
            <p:nvPr/>
          </p:nvPicPr>
          <p:blipFill>
            <a:blip r:embed="rId4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5" descr="EUlogo.jpg"/>
            <p:cNvPicPr/>
            <p:nvPr/>
          </p:nvPicPr>
          <p:blipFill>
            <a:blip r:embed="rId5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FE1A-5304-4C76-89A1-200A78D7AE58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9"/>
          <p:cNvSpPr/>
          <p:nvPr/>
        </p:nvSpPr>
        <p:spPr>
          <a:xfrm>
            <a:off x="576360" y="1428840"/>
            <a:ext cx="475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Slab making proc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ass collection: from recycling points around Shetland and its smaller is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ass processing: crushing and waste rem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atrix mixing: with cement and d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Casting: including vibration and c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e-moulding and packaging: shrink wrapping and banding on pall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roduct storage: and custome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Co-products are excluded from the foot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519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PAS 2050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5329080" y="1428840"/>
            <a:ext cx="3130560" cy="45831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166920" cy="4608360"/>
          </a:xfrm>
          <a:prstGeom prst="rect">
            <a:avLst/>
          </a:prstGeom>
          <a:ln w="0">
            <a:noFill/>
          </a:ln>
        </p:spPr>
      </p:pic>
      <p:grpSp>
        <p:nvGrpSpPr>
          <p:cNvPr id="523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524" name="Picture 6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2" descr=""/>
            <p:cNvPicPr/>
            <p:nvPr/>
          </p:nvPicPr>
          <p:blipFill>
            <a:blip r:embed="rId4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4" descr="NPP_logo_statement.gif"/>
            <p:cNvPicPr/>
            <p:nvPr/>
          </p:nvPicPr>
          <p:blipFill>
            <a:blip r:embed="rId5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5" descr="EUlogo.jpg"/>
            <p:cNvPicPr/>
            <p:nvPr/>
          </p:nvPicPr>
          <p:blipFill>
            <a:blip r:embed="rId6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D72C-C76C-4F6C-B8C1-BBD933A2C993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530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lass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Picture 8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136000" cy="49183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9"/>
          <p:cNvSpPr/>
          <p:nvPr/>
        </p:nvSpPr>
        <p:spPr>
          <a:xfrm>
            <a:off x="576360" y="1428840"/>
            <a:ext cx="2700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Shetland Recyc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49Nr collection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47Nr of which accept 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At roadside or business locations throughout the Shetland Is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9" descr=""/>
          <p:cNvPicPr/>
          <p:nvPr/>
        </p:nvPicPr>
        <p:blipFill>
          <a:blip r:embed="rId2"/>
          <a:stretch/>
        </p:blipFill>
        <p:spPr>
          <a:xfrm>
            <a:off x="5003640" y="3611520"/>
            <a:ext cx="3492720" cy="24559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13"/>
          <p:cNvSpPr/>
          <p:nvPr/>
        </p:nvSpPr>
        <p:spPr>
          <a:xfrm>
            <a:off x="5288040" y="215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Fet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0" descr=""/>
          <p:cNvPicPr/>
          <p:nvPr/>
        </p:nvPicPr>
        <p:blipFill>
          <a:blip r:embed="rId3"/>
          <a:stretch/>
        </p:blipFill>
        <p:spPr>
          <a:xfrm>
            <a:off x="6284880" y="1389240"/>
            <a:ext cx="2168640" cy="208728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4"/>
          <p:cNvSpPr/>
          <p:nvPr/>
        </p:nvSpPr>
        <p:spPr>
          <a:xfrm>
            <a:off x="1908000" y="50846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Holy Isle 2.5h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6534000" y="4741920"/>
            <a:ext cx="216000" cy="216000"/>
          </a:xfrm>
          <a:prstGeom prst="rect">
            <a:avLst/>
          </a:prstGeom>
          <a:noFill/>
          <a:ln w="19080">
            <a:solidFill>
              <a:srgbClr val="e99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4811760" y="2143080"/>
            <a:ext cx="433440" cy="358920"/>
          </a:xfrm>
          <a:prstGeom prst="rect">
            <a:avLst/>
          </a:prstGeom>
          <a:noFill/>
          <a:ln w="19080">
            <a:solidFill>
              <a:srgbClr val="e99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3924360" y="3357720"/>
            <a:ext cx="1008000" cy="718920"/>
          </a:xfrm>
          <a:prstGeom prst="rect">
            <a:avLst/>
          </a:prstGeom>
          <a:noFill/>
          <a:ln w="19080">
            <a:solidFill>
              <a:srgbClr val="e99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8"/>
          <p:cNvSpPr/>
          <p:nvPr/>
        </p:nvSpPr>
        <p:spPr>
          <a:xfrm>
            <a:off x="2478240" y="37162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Enviro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543" name="Picture 6" descr="Glasgow_Caledonian_R#60E79E.jpg"/>
            <p:cNvPicPr/>
            <p:nvPr/>
          </p:nvPicPr>
          <p:blipFill>
            <a:blip r:embed="rId4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2" descr=""/>
            <p:cNvPicPr/>
            <p:nvPr/>
          </p:nvPicPr>
          <p:blipFill>
            <a:blip r:embed="rId5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4" descr="NPP_logo_statement.gif"/>
            <p:cNvPicPr/>
            <p:nvPr/>
          </p:nvPicPr>
          <p:blipFill>
            <a:blip r:embed="rId6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5" descr="EUlogo.jpg"/>
            <p:cNvPicPr/>
            <p:nvPr/>
          </p:nvPicPr>
          <p:blipFill>
            <a:blip r:embed="rId7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4CD-47D5-4A2D-8FEB-2E76FCAA40C4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549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Key Shetland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1" name="Picture 8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174160" cy="4897440"/>
          </a:xfrm>
          <a:prstGeom prst="rect">
            <a:avLst/>
          </a:prstGeom>
          <a:ln w="0">
            <a:noFill/>
          </a:ln>
        </p:spPr>
      </p:pic>
      <p:sp>
        <p:nvSpPr>
          <p:cNvPr id="552" name="TextBox 10"/>
          <p:cNvSpPr/>
          <p:nvPr/>
        </p:nvSpPr>
        <p:spPr>
          <a:xfrm>
            <a:off x="4211640" y="472428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nviroglass (Cunningsburg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2"/>
          <p:cNvSpPr/>
          <p:nvPr/>
        </p:nvSpPr>
        <p:spPr>
          <a:xfrm>
            <a:off x="5076720" y="162864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fW Plant (Gremis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4492800" y="26431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99f0c"/>
                </a:solidFill>
                <a:latin typeface="Arial"/>
                <a:ea typeface="Arial"/>
              </a:rPr>
              <a:t>Lerw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556" name="Picture 6" descr="Glasgow_Caledonian_R#60E79E.jpg"/>
            <p:cNvPicPr/>
            <p:nvPr/>
          </p:nvPicPr>
          <p:blipFill>
            <a:blip r:embed="rId2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2" descr=""/>
            <p:cNvPicPr/>
            <p:nvPr/>
          </p:nvPicPr>
          <p:blipFill>
            <a:blip r:embed="rId3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4" descr="NPP_logo_statement.gif"/>
            <p:cNvPicPr/>
            <p:nvPr/>
          </p:nvPicPr>
          <p:blipFill>
            <a:blip r:embed="rId4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5" descr="EUlogo.jpg"/>
            <p:cNvPicPr/>
            <p:nvPr/>
          </p:nvPicPr>
          <p:blipFill>
            <a:blip r:embed="rId5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9956-0BCD-4141-8C42-7A14D421461B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563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adside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Picture 8" descr="X:\- Projects\Enviroglass Product Footprint\Research and Development Material\Scan01.jpg"/>
          <p:cNvPicPr/>
          <p:nvPr/>
        </p:nvPicPr>
        <p:blipFill>
          <a:blip r:embed="rId1"/>
          <a:stretch/>
        </p:blipFill>
        <p:spPr>
          <a:xfrm>
            <a:off x="5491080" y="1413000"/>
            <a:ext cx="3009960" cy="23032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9"/>
          <p:cNvSpPr/>
          <p:nvPr/>
        </p:nvSpPr>
        <p:spPr>
          <a:xfrm>
            <a:off x="576360" y="1428840"/>
            <a:ext cx="4752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Glass collection lor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edicated 14t Iveco Euro Cargo with Hi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Collects glass and metals on alternate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ixed col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elivered directly to Enviro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Lorry also collects from Whalsay, Yell, Unst, and Fetlar via fe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Quayside collections also made directly by ferry from Skerries, Bressay, Papa Stour, Foula, and Fair Is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9" descr="X:\- Projects\Enviroglass Product Footprint\Incomming\Enviroglass\140124\IMG_0794.JPG"/>
          <p:cNvPicPr/>
          <p:nvPr/>
        </p:nvPicPr>
        <p:blipFill>
          <a:blip r:embed="rId2"/>
          <a:stretch/>
        </p:blipFill>
        <p:spPr>
          <a:xfrm>
            <a:off x="5508720" y="3933720"/>
            <a:ext cx="2968560" cy="207504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569" name="Picture 6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2" descr=""/>
            <p:cNvPicPr/>
            <p:nvPr/>
          </p:nvPicPr>
          <p:blipFill>
            <a:blip r:embed="rId4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4" descr="NPP_logo_statement.gif"/>
            <p:cNvPicPr/>
            <p:nvPr/>
          </p:nvPicPr>
          <p:blipFill>
            <a:blip r:embed="rId5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5" descr="EUlogo.jpg"/>
            <p:cNvPicPr/>
            <p:nvPr/>
          </p:nvPicPr>
          <p:blipFill>
            <a:blip r:embed="rId6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DA86-80A2-41EE-B9D5-A38D7673896E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1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576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rry transport 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four of which carry the collection lorry*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9"/>
          <p:cNvSpPr/>
          <p:nvPr/>
        </p:nvSpPr>
        <p:spPr>
          <a:xfrm>
            <a:off x="676440" y="1341360"/>
            <a:ext cx="18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Bluemull 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9"/>
          <p:cNvSpPr/>
          <p:nvPr/>
        </p:nvSpPr>
        <p:spPr>
          <a:xfrm>
            <a:off x="665280" y="35971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Bigga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9"/>
          <p:cNvSpPr/>
          <p:nvPr/>
        </p:nvSpPr>
        <p:spPr>
          <a:xfrm>
            <a:off x="668160" y="5753160"/>
            <a:ext cx="14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Geira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3341520" y="1341360"/>
            <a:ext cx="14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Yell 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9"/>
          <p:cNvSpPr/>
          <p:nvPr/>
        </p:nvSpPr>
        <p:spPr>
          <a:xfrm>
            <a:off x="3419640" y="359712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Daggri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9"/>
          <p:cNvSpPr/>
          <p:nvPr/>
        </p:nvSpPr>
        <p:spPr>
          <a:xfrm>
            <a:off x="3333600" y="5753160"/>
            <a:ext cx="16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Dagalien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0" descr="http://www.shetland.gov.uk/ferries/fleet/images/Geira.med.jpg"/>
          <p:cNvPicPr/>
          <p:nvPr/>
        </p:nvPicPr>
        <p:blipFill>
          <a:blip r:embed="rId1"/>
          <a:stretch/>
        </p:blipFill>
        <p:spPr>
          <a:xfrm>
            <a:off x="755640" y="3957480"/>
            <a:ext cx="2236680" cy="180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Daggri at sea"/>
          <p:cNvPicPr/>
          <p:nvPr/>
        </p:nvPicPr>
        <p:blipFill>
          <a:blip r:embed="rId2"/>
          <a:stretch/>
        </p:blipFill>
        <p:spPr>
          <a:xfrm>
            <a:off x="3419640" y="1773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9" descr="http://www.shetland.gov.uk/ferries/fleet/images/Bigga.med.jpg"/>
          <p:cNvPicPr/>
          <p:nvPr/>
        </p:nvPicPr>
        <p:blipFill>
          <a:blip r:embed="rId3"/>
          <a:stretch/>
        </p:blipFill>
        <p:spPr>
          <a:xfrm>
            <a:off x="750960" y="1773360"/>
            <a:ext cx="22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1" descr="http://www.macduffshipdesign.com/images/dagrridagalien3_large.jpg"/>
          <p:cNvPicPr/>
          <p:nvPr/>
        </p:nvPicPr>
        <p:blipFill>
          <a:blip r:embed="rId4"/>
          <a:stretch/>
        </p:blipFill>
        <p:spPr>
          <a:xfrm>
            <a:off x="3419640" y="3973680"/>
            <a:ext cx="2214360" cy="1758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Hendra in Vidlin Voe"/>
          <p:cNvPicPr/>
          <p:nvPr/>
        </p:nvPicPr>
        <p:blipFill>
          <a:blip r:embed="rId5"/>
          <a:stretch/>
        </p:blipFill>
        <p:spPr>
          <a:xfrm>
            <a:off x="6041880" y="1773360"/>
            <a:ext cx="2246400" cy="1809720"/>
          </a:xfrm>
          <a:prstGeom prst="rect">
            <a:avLst/>
          </a:prstGeom>
          <a:ln w="0">
            <a:noFill/>
          </a:ln>
        </p:spPr>
      </p:pic>
      <p:sp>
        <p:nvSpPr>
          <p:cNvPr id="589" name="TextBox 9"/>
          <p:cNvSpPr/>
          <p:nvPr/>
        </p:nvSpPr>
        <p:spPr>
          <a:xfrm>
            <a:off x="5851440" y="1341360"/>
            <a:ext cx="22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Whal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9"/>
          <p:cNvSpPr/>
          <p:nvPr/>
        </p:nvSpPr>
        <p:spPr>
          <a:xfrm>
            <a:off x="5931000" y="36021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Hen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3" descr="http://www.shetland.gov.uk/ferries/fleet/images/Linga.jpg"/>
          <p:cNvPicPr/>
          <p:nvPr/>
        </p:nvPicPr>
        <p:blipFill>
          <a:blip r:embed="rId6"/>
          <a:stretch/>
        </p:blipFill>
        <p:spPr>
          <a:xfrm>
            <a:off x="6046920" y="3957480"/>
            <a:ext cx="2228760" cy="1783080"/>
          </a:xfrm>
          <a:prstGeom prst="rect">
            <a:avLst/>
          </a:prstGeom>
          <a:ln w="0">
            <a:noFill/>
          </a:ln>
        </p:spPr>
      </p:pic>
      <p:sp>
        <p:nvSpPr>
          <p:cNvPr id="592" name="TextBox 9"/>
          <p:cNvSpPr/>
          <p:nvPr/>
        </p:nvSpPr>
        <p:spPr>
          <a:xfrm>
            <a:off x="5931000" y="57373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Li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594" name="Picture 6" descr="Glasgow_Caledonian_R#60E79E.jpg"/>
            <p:cNvPicPr/>
            <p:nvPr/>
          </p:nvPicPr>
          <p:blipFill>
            <a:blip r:embed="rId7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2" descr=""/>
            <p:cNvPicPr/>
            <p:nvPr/>
          </p:nvPicPr>
          <p:blipFill>
            <a:blip r:embed="rId8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" descr="NPP_logo_statement.gif"/>
            <p:cNvPicPr/>
            <p:nvPr/>
          </p:nvPicPr>
          <p:blipFill>
            <a:blip r:embed="rId9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5" descr="EUlogo.jpg"/>
            <p:cNvPicPr/>
            <p:nvPr/>
          </p:nvPicPr>
          <p:blipFill>
            <a:blip r:embed="rId10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4B5-7366-448A-9911-422E5632314F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601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rry trans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Box 9"/>
          <p:cNvSpPr/>
          <p:nvPr/>
        </p:nvSpPr>
        <p:spPr>
          <a:xfrm>
            <a:off x="662040" y="134136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Foula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MV New Adv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9"/>
          <p:cNvSpPr/>
          <p:nvPr/>
        </p:nvSpPr>
        <p:spPr>
          <a:xfrm>
            <a:off x="5934240" y="1351080"/>
            <a:ext cx="28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Fair Isl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Good Shephe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3338640" y="1341360"/>
            <a:ext cx="22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Bressay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Lei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338640" y="3600360"/>
            <a:ext cx="22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Papa Stour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Snol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9"/>
          <p:cNvSpPr/>
          <p:nvPr/>
        </p:nvSpPr>
        <p:spPr>
          <a:xfrm>
            <a:off x="674640" y="3602160"/>
            <a:ext cx="22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Relief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F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9"/>
          <p:cNvSpPr/>
          <p:nvPr/>
        </p:nvSpPr>
        <p:spPr>
          <a:xfrm>
            <a:off x="5952960" y="3602160"/>
            <a:ext cx="22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Relief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V T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7" descr="http://www.simplonpc.co.uk/Shetland/New-Advance-01-jwp.jpg"/>
          <p:cNvPicPr/>
          <p:nvPr/>
        </p:nvPicPr>
        <p:blipFill>
          <a:blip r:embed="rId1"/>
          <a:stretch/>
        </p:blipFill>
        <p:spPr>
          <a:xfrm>
            <a:off x="755640" y="1773360"/>
            <a:ext cx="2241720" cy="17809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Good Shepherd - Grutness"/>
          <p:cNvPicPr/>
          <p:nvPr/>
        </p:nvPicPr>
        <p:blipFill>
          <a:blip r:embed="rId2"/>
          <a:stretch/>
        </p:blipFill>
        <p:spPr>
          <a:xfrm>
            <a:off x="6037200" y="1773360"/>
            <a:ext cx="2232000" cy="17809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http://www.shetland.gov.uk/ferries/fleet/images/Thora.med.jpg"/>
          <p:cNvPicPr/>
          <p:nvPr/>
        </p:nvPicPr>
        <p:blipFill>
          <a:blip r:embed="rId3"/>
          <a:stretch/>
        </p:blipFill>
        <p:spPr>
          <a:xfrm>
            <a:off x="6041880" y="3962520"/>
            <a:ext cx="2237040" cy="1787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5" descr="http://www.shetland.gov.uk/ferries/fleet/images/Leirna.med.jpg"/>
          <p:cNvPicPr/>
          <p:nvPr/>
        </p:nvPicPr>
        <p:blipFill>
          <a:blip r:embed="rId4"/>
          <a:stretch/>
        </p:blipFill>
        <p:spPr>
          <a:xfrm>
            <a:off x="3417840" y="1773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3" descr="http://www.shetland.gov.uk/ferries/fleet/images/Snolda.med.jpg"/>
          <p:cNvPicPr/>
          <p:nvPr/>
        </p:nvPicPr>
        <p:blipFill>
          <a:blip r:embed="rId5"/>
          <a:stretch/>
        </p:blipFill>
        <p:spPr>
          <a:xfrm>
            <a:off x="3441600" y="3965400"/>
            <a:ext cx="2225880" cy="17672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http://www.shetland.gov.uk/ferries/fleet/images/MVFivla.med.jpg"/>
          <p:cNvPicPr/>
          <p:nvPr/>
        </p:nvPicPr>
        <p:blipFill>
          <a:blip r:embed="rId6"/>
          <a:stretch/>
        </p:blipFill>
        <p:spPr>
          <a:xfrm>
            <a:off x="755640" y="3956040"/>
            <a:ext cx="2232000" cy="180180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616" name="Picture 6" descr="Glasgow_Caledonian_R#60E79E.jpg"/>
            <p:cNvPicPr/>
            <p:nvPr/>
          </p:nvPicPr>
          <p:blipFill>
            <a:blip r:embed="rId7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2" descr=""/>
            <p:cNvPicPr/>
            <p:nvPr/>
          </p:nvPicPr>
          <p:blipFill>
            <a:blip r:embed="rId8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4" descr="NPP_logo_statement.gif"/>
            <p:cNvPicPr/>
            <p:nvPr/>
          </p:nvPicPr>
          <p:blipFill>
            <a:blip r:embed="rId9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5" descr="EUlogo.jpg"/>
            <p:cNvPicPr/>
            <p:nvPr/>
          </p:nvPicPr>
          <p:blipFill>
            <a:blip r:embed="rId10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0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D769-2B67-44C7-A521-D2E4D8E21F4C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623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asurement and repor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Box 17"/>
          <p:cNvSpPr/>
          <p:nvPr/>
        </p:nvSpPr>
        <p:spPr>
          <a:xfrm>
            <a:off x="4932360" y="4140360"/>
            <a:ext cx="3095640" cy="368280"/>
          </a:xfrm>
          <a:prstGeom prst="rect">
            <a:avLst/>
          </a:prstGeom>
          <a:solidFill>
            <a:srgbClr val="e99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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porting period </a:t>
            </a:r>
            <a:r>
              <a:rPr b="0" lang="en-GB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Straight Arrow Connector 19"/>
          <p:cNvCxnSpPr/>
          <p:nvPr/>
        </p:nvCxnSpPr>
        <p:spPr>
          <a:xfrm>
            <a:off x="4932000" y="1484280"/>
            <a:ext cx="1080" cy="4393440"/>
          </a:xfrm>
          <a:prstGeom prst="straightConnector1">
            <a:avLst/>
          </a:prstGeom>
          <a:ln w="9360">
            <a:solidFill>
              <a:srgbClr val="e99f0c"/>
            </a:solidFill>
            <a:prstDash val="sysDash"/>
            <a:miter/>
          </a:ln>
        </p:spPr>
      </p:cxnSp>
      <p:cxnSp>
        <p:nvCxnSpPr>
          <p:cNvPr id="627" name="Straight Arrow Connector 20"/>
          <p:cNvCxnSpPr/>
          <p:nvPr/>
        </p:nvCxnSpPr>
        <p:spPr>
          <a:xfrm>
            <a:off x="971280" y="1484280"/>
            <a:ext cx="1080" cy="4393440"/>
          </a:xfrm>
          <a:prstGeom prst="straightConnector1">
            <a:avLst/>
          </a:prstGeom>
          <a:ln w="9360">
            <a:solidFill>
              <a:srgbClr val="e99f0c"/>
            </a:solidFill>
            <a:prstDash val="sysDash"/>
            <a:miter/>
          </a:ln>
        </p:spPr>
      </p:cxnSp>
      <p:cxnSp>
        <p:nvCxnSpPr>
          <p:cNvPr id="628" name="Straight Arrow Connector 21"/>
          <p:cNvCxnSpPr/>
          <p:nvPr/>
        </p:nvCxnSpPr>
        <p:spPr>
          <a:xfrm>
            <a:off x="8027640" y="1484280"/>
            <a:ext cx="1080" cy="4393440"/>
          </a:xfrm>
          <a:prstGeom prst="straightConnector1">
            <a:avLst/>
          </a:prstGeom>
          <a:ln w="9360">
            <a:solidFill>
              <a:srgbClr val="e99f0c"/>
            </a:solidFill>
            <a:prstDash val="sysDash"/>
            <a:miter/>
          </a:ln>
        </p:spPr>
      </p:cxnSp>
      <p:cxnSp>
        <p:nvCxnSpPr>
          <p:cNvPr id="629" name="Straight Arrow Connector 24"/>
          <p:cNvCxnSpPr/>
          <p:nvPr/>
        </p:nvCxnSpPr>
        <p:spPr>
          <a:xfrm flipV="1">
            <a:off x="971640" y="5444280"/>
            <a:ext cx="3961080" cy="1080"/>
          </a:xfrm>
          <a:prstGeom prst="straightConnector1">
            <a:avLst/>
          </a:prstGeom>
          <a:ln w="9360">
            <a:solidFill>
              <a:srgbClr val="e99f0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0" name="Straight Arrow Connector 25"/>
          <p:cNvCxnSpPr/>
          <p:nvPr/>
        </p:nvCxnSpPr>
        <p:spPr>
          <a:xfrm>
            <a:off x="4932000" y="5444640"/>
            <a:ext cx="3096360" cy="1080"/>
          </a:xfrm>
          <a:prstGeom prst="straightConnector1">
            <a:avLst/>
          </a:prstGeom>
          <a:ln w="9360">
            <a:solidFill>
              <a:srgbClr val="e99f0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1" name="TextBox 9"/>
          <p:cNvSpPr/>
          <p:nvPr/>
        </p:nvSpPr>
        <p:spPr>
          <a:xfrm>
            <a:off x="2124000" y="5445000"/>
            <a:ext cx="16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2 - 24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9"/>
          <p:cNvSpPr/>
          <p:nvPr/>
        </p:nvSpPr>
        <p:spPr>
          <a:xfrm>
            <a:off x="5580000" y="5445000"/>
            <a:ext cx="16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4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9"/>
          <p:cNvSpPr/>
          <p:nvPr/>
        </p:nvSpPr>
        <p:spPr>
          <a:xfrm>
            <a:off x="5148360" y="1484280"/>
            <a:ext cx="27367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Key data requir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aterial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ranspor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Water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kaging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nergy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Waste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xpressed as kgCO</a:t>
            </a:r>
            <a:r>
              <a:rPr b="0" i="1" lang="en-GB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/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741240" y="3860640"/>
            <a:ext cx="33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Wind back to a stable 12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8"/>
          <p:cNvSpPr/>
          <p:nvPr/>
        </p:nvSpPr>
        <p:spPr>
          <a:xfrm>
            <a:off x="2078640" y="4508640"/>
            <a:ext cx="16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ada"/>
                </a:solidFill>
                <a:latin typeface="Verdana"/>
                <a:ea typeface="Verdana"/>
              </a:rPr>
              <a:t>Carbo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  <a:ea typeface="Verdana"/>
              </a:rPr>
              <a:t>Footprint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Straight Arrow Connector 22"/>
          <p:cNvCxnSpPr/>
          <p:nvPr/>
        </p:nvCxnSpPr>
        <p:spPr>
          <a:xfrm>
            <a:off x="4066920" y="2492280"/>
            <a:ext cx="1080" cy="1874160"/>
          </a:xfrm>
          <a:prstGeom prst="straightConnector1">
            <a:avLst/>
          </a:prstGeom>
          <a:ln w="9360">
            <a:solidFill>
              <a:srgbClr val="e99f0c"/>
            </a:solidFill>
            <a:prstDash val="sysDash"/>
            <a:miter/>
          </a:ln>
        </p:spPr>
      </p:cxnSp>
      <p:sp>
        <p:nvSpPr>
          <p:cNvPr id="637" name="TextBox 14"/>
          <p:cNvSpPr/>
          <p:nvPr/>
        </p:nvSpPr>
        <p:spPr>
          <a:xfrm>
            <a:off x="1835280" y="2708280"/>
            <a:ext cx="3097080" cy="368280"/>
          </a:xfrm>
          <a:prstGeom prst="rect">
            <a:avLst/>
          </a:prstGeom>
          <a:solidFill>
            <a:srgbClr val="e99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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Measurement period </a:t>
            </a:r>
            <a:r>
              <a:rPr b="0" lang="en-GB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7"/>
          <p:cNvSpPr/>
          <p:nvPr/>
        </p:nvSpPr>
        <p:spPr>
          <a:xfrm>
            <a:off x="1692360" y="1509840"/>
            <a:ext cx="2663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ada"/>
                </a:solidFill>
                <a:latin typeface="Verdana"/>
                <a:ea typeface="Verdana"/>
              </a:rPr>
              <a:t>Carbo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  <a:ea typeface="Verdana"/>
              </a:rPr>
              <a:t>Code of Good Practice for Product Greenhouse Gas Emissions and Reduction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Straight Arrow Connector 29"/>
          <p:cNvCxnSpPr/>
          <p:nvPr/>
        </p:nvCxnSpPr>
        <p:spPr>
          <a:xfrm>
            <a:off x="1834920" y="2492280"/>
            <a:ext cx="1080" cy="1874160"/>
          </a:xfrm>
          <a:prstGeom prst="straightConnector1">
            <a:avLst/>
          </a:prstGeom>
          <a:ln w="9360">
            <a:solidFill>
              <a:srgbClr val="e99f0c"/>
            </a:solidFill>
            <a:prstDash val="sysDash"/>
            <a:miter/>
          </a:ln>
        </p:spPr>
      </p:cxnSp>
      <p:sp>
        <p:nvSpPr>
          <p:cNvPr id="640" name="TextBox 22"/>
          <p:cNvSpPr/>
          <p:nvPr/>
        </p:nvSpPr>
        <p:spPr>
          <a:xfrm>
            <a:off x="971640" y="3492360"/>
            <a:ext cx="3095640" cy="368280"/>
          </a:xfrm>
          <a:prstGeom prst="rect">
            <a:avLst/>
          </a:prstGeom>
          <a:solidFill>
            <a:srgbClr val="e99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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Process change in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642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6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C482-D4EF-45EE-9744-F58D5B87A1D0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649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 of key input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Box 14"/>
          <p:cNvSpPr/>
          <p:nvPr/>
        </p:nvSpPr>
        <p:spPr>
          <a:xfrm>
            <a:off x="576360" y="1428840"/>
            <a:ext cx="7883280" cy="48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Collection lorry distance travelle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39,595km/yr (24,603mi/y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otal glass collecte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566.3 t/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quivalent number of 75cl wine bottl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2,831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mbodied energy in the glas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2,378 tCO</a:t>
            </a:r>
            <a:r>
              <a:rPr b="0" lang="en-GB" sz="16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otal glass recycled by Enviroglas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525.7 t/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Waste returned to EfW (labels, caps etc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40.6 t/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missions allocated to sea ferri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8.24 tCO</a:t>
            </a:r>
            <a:r>
              <a:rPr b="0" lang="en-GB" sz="16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/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missions from road transpor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35.7 tCO</a:t>
            </a:r>
            <a:r>
              <a:rPr b="0" lang="en-GB" sz="16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/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missions allocated to site vehicl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3.8 tCO</a:t>
            </a:r>
            <a:r>
              <a:rPr b="0" lang="en-GB" sz="16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/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otal site electricity emission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4.3 tCO</a:t>
            </a:r>
            <a:r>
              <a:rPr b="0" lang="en-GB" sz="16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/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3" descr="http://www.enviroglass.co.uk/wp-content/uploads/bottles.jpg"/>
          <p:cNvPicPr/>
          <p:nvPr/>
        </p:nvPicPr>
        <p:blipFill>
          <a:blip r:embed="rId1"/>
          <a:stretch/>
        </p:blipFill>
        <p:spPr>
          <a:xfrm>
            <a:off x="1187280" y="3782880"/>
            <a:ext cx="3961080" cy="120816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654" name="Picture 6" descr="Glasgow_Caledonian_R#60E79E.jpg"/>
            <p:cNvPicPr/>
            <p:nvPr/>
          </p:nvPicPr>
          <p:blipFill>
            <a:blip r:embed="rId2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2" descr=""/>
            <p:cNvPicPr/>
            <p:nvPr/>
          </p:nvPicPr>
          <p:blipFill>
            <a:blip r:embed="rId3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" descr="NPP_logo_statement.gif"/>
            <p:cNvPicPr/>
            <p:nvPr/>
          </p:nvPicPr>
          <p:blipFill>
            <a:blip r:embed="rId4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5" descr="EUlogo.jpg"/>
            <p:cNvPicPr/>
            <p:nvPr/>
          </p:nvPicPr>
          <p:blipFill>
            <a:blip r:embed="rId5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C746-13A4-450E-B0FF-C1935B9A4CEC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661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ill of materi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TextBox 14"/>
          <p:cNvSpPr/>
          <p:nvPr/>
        </p:nvSpPr>
        <p:spPr>
          <a:xfrm>
            <a:off x="576360" y="1428840"/>
            <a:ext cx="7883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Material in a production bat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ass (all in) 942kg (transport and process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Cement (Ordinary Portland or White) 150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ye 8kg (only used if required for chosen colour of slab –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Quida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Klebe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Water (108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Quantity of slabs in a bat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300x300x38mm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= 172 sla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450x450x38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= 76 sla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600x600x38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= 39 sla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450x450x50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= 54 sla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4643280" y="4437000"/>
          <a:ext cx="3888000" cy="1656000"/>
        </p:xfrm>
        <a:graphic>
          <a:graphicData uri="http://schemas.openxmlformats.org/drawingml/2006/table">
            <a:tbl>
              <a:tblPr/>
              <a:tblGrid>
                <a:gridCol w="1478160"/>
                <a:gridCol w="762120"/>
                <a:gridCol w="919080"/>
                <a:gridCol w="728640"/>
              </a:tblGrid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ze and Fin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moo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orkst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sl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x 300 x 38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df7b0c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df7b0c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0 x 450 x 38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df7b0c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df7b0c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0 x 450 x 50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df7b0c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0 x 600 x 38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df7b0c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0 x 600 x 50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df7b0c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8764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Enviroglass cast slab product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65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666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0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4E3D-5BF2-4BA1-A9FD-ED6C1F567735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Future Footprints</a:t>
            </a:r>
            <a:endParaRPr b="1" lang="en-US" sz="40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673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 resul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TextBox 9"/>
          <p:cNvSpPr/>
          <p:nvPr/>
        </p:nvSpPr>
        <p:spPr>
          <a:xfrm>
            <a:off x="576360" y="1428840"/>
            <a:ext cx="46432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PAS 2050 product footpr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38mm thick slab = </a:t>
            </a:r>
            <a:r>
              <a:rPr b="0" lang="en-GB" sz="4400" spc="-1" strike="noStrike">
                <a:solidFill>
                  <a:srgbClr val="e99f0c"/>
                </a:solidFill>
                <a:latin typeface="Arial"/>
                <a:ea typeface="Arial"/>
              </a:rPr>
              <a:t>16kgCO</a:t>
            </a:r>
            <a:r>
              <a:rPr b="0" lang="en-GB" sz="44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4400" spc="-1" strike="noStrike">
                <a:solidFill>
                  <a:srgbClr val="e99f0c"/>
                </a:solidFill>
                <a:latin typeface="Arial"/>
                <a:ea typeface="Arial"/>
              </a:rPr>
              <a:t>e/m</a:t>
            </a:r>
            <a:r>
              <a:rPr b="0" lang="en-GB" sz="4400" spc="-1" strike="noStrike" baseline="30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0mm thick slabs = </a:t>
            </a:r>
            <a:r>
              <a:rPr b="0" lang="en-GB" sz="4400" spc="-1" strike="noStrike">
                <a:solidFill>
                  <a:srgbClr val="e99f0c"/>
                </a:solidFill>
                <a:latin typeface="Arial"/>
                <a:ea typeface="Arial"/>
              </a:rPr>
              <a:t>21kgCO</a:t>
            </a:r>
            <a:r>
              <a:rPr b="0" lang="en-GB" sz="44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4400" spc="-1" strike="noStrike">
                <a:solidFill>
                  <a:srgbClr val="e99f0c"/>
                </a:solidFill>
                <a:latin typeface="Arial"/>
                <a:ea typeface="Arial"/>
              </a:rPr>
              <a:t>e/m</a:t>
            </a:r>
            <a:r>
              <a:rPr b="0" lang="en-GB" sz="4400" spc="-1" strike="noStrike" baseline="30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Marshals paving compara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0mm slabs = 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16kgCO</a:t>
            </a:r>
            <a:r>
              <a:rPr b="0" lang="en-GB" sz="16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/m</a:t>
            </a:r>
            <a:r>
              <a:rPr b="0" lang="en-GB" sz="1600" spc="-1" strike="noStrike" baseline="30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minimum, 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40kgCO</a:t>
            </a:r>
            <a:r>
              <a:rPr b="0" lang="en-GB" sz="16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/m</a:t>
            </a:r>
            <a:r>
              <a:rPr b="0" lang="en-GB" sz="1600" spc="-1" strike="noStrike" baseline="30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maximum, with an average of 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22.56kgCO</a:t>
            </a:r>
            <a:r>
              <a:rPr b="0" lang="en-GB" sz="1600" spc="-1" strike="noStrike" baseline="-25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e99f0c"/>
                </a:solidFill>
                <a:latin typeface="Arial"/>
                <a:ea typeface="Arial"/>
              </a:rPr>
              <a:t>e/m</a:t>
            </a:r>
            <a:r>
              <a:rPr b="0" lang="en-GB" sz="1600" spc="-1" strike="noStrike" baseline="30000">
                <a:solidFill>
                  <a:srgbClr val="e99f0c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ver a range of 38Nr plain finished 50mm thick products (don’t do a 38mm slab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www.shetlandamenity.org/assets/images/enlargeable/environmental-improvement/enviroglass/EnviroGlassPhotoShoot-0554-w960-h650.jpg"/>
          <p:cNvPicPr/>
          <p:nvPr/>
        </p:nvPicPr>
        <p:blipFill>
          <a:blip r:embed="rId1"/>
          <a:stretch/>
        </p:blipFill>
        <p:spPr>
          <a:xfrm>
            <a:off x="5219640" y="1413000"/>
            <a:ext cx="3267000" cy="46260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5" descr="X:\NC05 Marketing\Image Library\Logos\CT_Working_Black.eps"/>
          <p:cNvPicPr/>
          <p:nvPr/>
        </p:nvPicPr>
        <p:blipFill>
          <a:blip r:embed="rId2"/>
          <a:srcRect l="0" t="12505" r="0" b="0"/>
          <a:stretch/>
        </p:blipFill>
        <p:spPr>
          <a:xfrm>
            <a:off x="6732720" y="1773360"/>
            <a:ext cx="1411200" cy="1008000"/>
          </a:xfrm>
          <a:prstGeom prst="rect">
            <a:avLst/>
          </a:prstGeom>
          <a:ln w="0">
            <a:noFill/>
          </a:ln>
        </p:spPr>
      </p:pic>
      <p:grpSp>
        <p:nvGrpSpPr>
          <p:cNvPr id="678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679" name="Picture 6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2" descr=""/>
            <p:cNvPicPr/>
            <p:nvPr/>
          </p:nvPicPr>
          <p:blipFill>
            <a:blip r:embed="rId4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4" descr="NPP_logo_statement.gif"/>
            <p:cNvPicPr/>
            <p:nvPr/>
          </p:nvPicPr>
          <p:blipFill>
            <a:blip r:embed="rId5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5" descr="EUlogo.jpg"/>
            <p:cNvPicPr/>
            <p:nvPr/>
          </p:nvPicPr>
          <p:blipFill>
            <a:blip r:embed="rId6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BC7B-EF11-45C7-8FBC-4B8396FCC9DE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686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lass to EfW as municipal solid wast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Box 9"/>
          <p:cNvSpPr/>
          <p:nvPr/>
        </p:nvSpPr>
        <p:spPr>
          <a:xfrm>
            <a:off x="684360" y="1413000"/>
            <a:ext cx="352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ass doesn’t burn, it me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nergy is used in me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Which reduces the yiel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4" descr="wastetoenergy"/>
          <p:cNvPicPr/>
          <p:nvPr/>
        </p:nvPicPr>
        <p:blipFill>
          <a:blip r:embed="rId1"/>
          <a:stretch/>
        </p:blipFill>
        <p:spPr>
          <a:xfrm>
            <a:off x="684360" y="2852640"/>
            <a:ext cx="4952880" cy="28958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" descr="The Gremista waste to energy plant must burn more imported fuel after recycling reduced the islands' waste stream. Photo Shetland News"/>
          <p:cNvPicPr/>
          <p:nvPr/>
        </p:nvPicPr>
        <p:blipFill>
          <a:blip r:embed="rId2"/>
          <a:stretch/>
        </p:blipFill>
        <p:spPr>
          <a:xfrm>
            <a:off x="4211640" y="1484280"/>
            <a:ext cx="4176720" cy="30290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" descr="http://i.telegraph.co.uk/multimedia/archive/02340/Wine_2340370b.jpg"/>
          <p:cNvPicPr/>
          <p:nvPr/>
        </p:nvPicPr>
        <p:blipFill>
          <a:blip r:embed="rId3"/>
          <a:stretch/>
        </p:blipFill>
        <p:spPr>
          <a:xfrm>
            <a:off x="6642000" y="4653000"/>
            <a:ext cx="1746360" cy="10890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9"/>
          <p:cNvSpPr/>
          <p:nvPr/>
        </p:nvSpPr>
        <p:spPr>
          <a:xfrm>
            <a:off x="2124000" y="582624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oes cradle to cradle have to mean, bottle to bott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694" name="Picture 6" descr="Glasgow_Caledonian_R#60E79E.jpg"/>
            <p:cNvPicPr/>
            <p:nvPr/>
          </p:nvPicPr>
          <p:blipFill>
            <a:blip r:embed="rId4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2" descr=""/>
            <p:cNvPicPr/>
            <p:nvPr/>
          </p:nvPicPr>
          <p:blipFill>
            <a:blip r:embed="rId5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" descr="NPP_logo_statement.gif"/>
            <p:cNvPicPr/>
            <p:nvPr/>
          </p:nvPicPr>
          <p:blipFill>
            <a:blip r:embed="rId6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5" descr="EUlogo.jpg"/>
            <p:cNvPicPr/>
            <p:nvPr/>
          </p:nvPicPr>
          <p:blipFill>
            <a:blip r:embed="rId7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0D54-AF0A-4D58-B10A-940414C081B5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468360" y="1260360"/>
            <a:ext cx="8172360" cy="4930920"/>
          </a:xfrm>
          <a:prstGeom prst="rect">
            <a:avLst/>
          </a:prstGeom>
          <a:solidFill>
            <a:srgbClr val="3943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0"/>
          <p:cNvGrpSpPr/>
          <p:nvPr/>
        </p:nvGrpSpPr>
        <p:grpSpPr>
          <a:xfrm>
            <a:off x="468360" y="528480"/>
            <a:ext cx="5818320" cy="443160"/>
            <a:chOff x="468360" y="528480"/>
            <a:chExt cx="5818320" cy="443160"/>
          </a:xfrm>
        </p:grpSpPr>
        <p:sp>
          <p:nvSpPr>
            <p:cNvPr id="701" name="TextBox 5"/>
            <p:cNvSpPr/>
            <p:nvPr/>
          </p:nvSpPr>
          <p:spPr>
            <a:xfrm>
              <a:off x="468360" y="528480"/>
              <a:ext cx="5818320" cy="398880"/>
            </a:xfrm>
            <a:prstGeom prst="rect">
              <a:avLst/>
            </a:prstGeom>
            <a:solidFill>
              <a:srgbClr val="39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inland glass recycling optio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Straight Connector 11"/>
            <p:cNvSpPr/>
            <p:nvPr/>
          </p:nvSpPr>
          <p:spPr>
            <a:xfrm>
              <a:off x="468360" y="971640"/>
              <a:ext cx="5818320" cy="0"/>
            </a:xfrm>
            <a:prstGeom prst="line">
              <a:avLst/>
            </a:prstGeom>
            <a:ln w="12600">
              <a:solidFill>
                <a:srgbClr val="f1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24"/>
          <p:cNvGrpSpPr/>
          <p:nvPr/>
        </p:nvGrpSpPr>
        <p:grpSpPr>
          <a:xfrm>
            <a:off x="961920" y="1413000"/>
            <a:ext cx="3249720" cy="4248000"/>
            <a:chOff x="961920" y="1413000"/>
            <a:chExt cx="3249720" cy="4248000"/>
          </a:xfrm>
        </p:grpSpPr>
        <p:pic>
          <p:nvPicPr>
            <p:cNvPr id="704" name="Picture 21" descr=""/>
            <p:cNvPicPr/>
            <p:nvPr/>
          </p:nvPicPr>
          <p:blipFill>
            <a:blip r:embed="rId1"/>
            <a:stretch/>
          </p:blipFill>
          <p:spPr>
            <a:xfrm>
              <a:off x="961920" y="1413000"/>
              <a:ext cx="3249720" cy="42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12" descr=""/>
            <p:cNvPicPr/>
            <p:nvPr/>
          </p:nvPicPr>
          <p:blipFill>
            <a:blip r:embed="rId2"/>
            <a:stretch/>
          </p:blipFill>
          <p:spPr>
            <a:xfrm>
              <a:off x="961920" y="1422360"/>
              <a:ext cx="100800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25"/>
          <p:cNvGrpSpPr/>
          <p:nvPr/>
        </p:nvGrpSpPr>
        <p:grpSpPr>
          <a:xfrm>
            <a:off x="4782960" y="1413000"/>
            <a:ext cx="3245040" cy="4248000"/>
            <a:chOff x="4782960" y="1413000"/>
            <a:chExt cx="3245040" cy="4248000"/>
          </a:xfrm>
        </p:grpSpPr>
        <p:pic>
          <p:nvPicPr>
            <p:cNvPr id="707" name="Picture 8" descr=""/>
            <p:cNvPicPr/>
            <p:nvPr/>
          </p:nvPicPr>
          <p:blipFill>
            <a:blip r:embed="rId3"/>
            <a:stretch/>
          </p:blipFill>
          <p:spPr>
            <a:xfrm>
              <a:off x="4786920" y="1413000"/>
              <a:ext cx="3241080" cy="42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13" descr=""/>
            <p:cNvPicPr/>
            <p:nvPr/>
          </p:nvPicPr>
          <p:blipFill>
            <a:blip r:embed="rId4"/>
            <a:stretch/>
          </p:blipFill>
          <p:spPr>
            <a:xfrm>
              <a:off x="4782960" y="142236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15" descr=""/>
            <p:cNvPicPr/>
            <p:nvPr/>
          </p:nvPicPr>
          <p:blipFill>
            <a:blip r:embed="rId5"/>
            <a:stretch/>
          </p:blipFill>
          <p:spPr>
            <a:xfrm>
              <a:off x="7207200" y="1422360"/>
              <a:ext cx="79200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TextBox 9"/>
          <p:cNvSpPr/>
          <p:nvPr/>
        </p:nvSpPr>
        <p:spPr>
          <a:xfrm>
            <a:off x="876240" y="5732640"/>
            <a:ext cx="32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Linwood 42.9 tC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 transpor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9"/>
          <p:cNvSpPr/>
          <p:nvPr/>
        </p:nvSpPr>
        <p:spPr>
          <a:xfrm>
            <a:off x="4716360" y="5732640"/>
            <a:ext cx="324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Leeds 62.5 tC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 transpor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1042920" y="155736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Allglass Reprocessors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produce glass beads and b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9"/>
          <p:cNvSpPr/>
          <p:nvPr/>
        </p:nvSpPr>
        <p:spPr>
          <a:xfrm>
            <a:off x="4859280" y="1557360"/>
            <a:ext cx="172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Yorksh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6Nr companies ma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33"/>
                </a:solidFill>
                <a:latin typeface="Arial"/>
                <a:ea typeface="Arial"/>
              </a:rPr>
              <a:t>glass 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15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715" name="Picture 6" descr="Glasgow_Caledonian_R#60E79E.jpg"/>
            <p:cNvPicPr/>
            <p:nvPr/>
          </p:nvPicPr>
          <p:blipFill>
            <a:blip r:embed="rId6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" descr=""/>
            <p:cNvPicPr/>
            <p:nvPr/>
          </p:nvPicPr>
          <p:blipFill>
            <a:blip r:embed="rId7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4" descr="NPP_logo_statement.gif"/>
            <p:cNvPicPr/>
            <p:nvPr/>
          </p:nvPicPr>
          <p:blipFill>
            <a:blip r:embed="rId8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5" descr="EUlogo.jpg"/>
            <p:cNvPicPr/>
            <p:nvPr/>
          </p:nvPicPr>
          <p:blipFill>
            <a:blip r:embed="rId9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FE44-D005-448A-999F-C2F6EFD32AFC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Reference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Poston A, Emmanuel R, Thomson C. 2010. </a:t>
            </a:r>
            <a:r>
              <a:rPr b="0" lang="ja-JP" sz="1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Developing holistic frameworks for the next generation of Sustainability Assessment Methods (SAMs) for the built environment,</a:t>
            </a:r>
            <a:r>
              <a:rPr b="0" lang="ja-JP" sz="1600" spc="-1" strike="noStrike">
                <a:solidFill>
                  <a:srgbClr val="0070c0"/>
                </a:solidFill>
                <a:latin typeface="Calibri"/>
              </a:rPr>
              <a:t>”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26</a:t>
            </a:r>
            <a:r>
              <a:rPr b="0" lang="en-US" sz="16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Annual Conference of the Association of Researchers in Construction Management (ARCOM) Available at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Calibri"/>
                <a:hlinkClick r:id="rId1"/>
              </a:rPr>
              <a:t>http://www.arcom.ac.uk/-docs/proceedings/ar2010-1487-1496_Poston_Emmanuel_and_Thomson.pdf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(last accessed 03.02.2014)</a:t>
            </a:r>
            <a:endParaRPr b="0" lang="en-US" sz="1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UN-Habitat, 2008 </a:t>
            </a:r>
            <a:r>
              <a:rPr b="0" i="1" lang="en-US" sz="1600" spc="-1" strike="noStrike">
                <a:solidFill>
                  <a:srgbClr val="0070c0"/>
                </a:solidFill>
                <a:latin typeface="Calibri"/>
              </a:rPr>
              <a:t>State of the World</a:t>
            </a:r>
            <a:r>
              <a:rPr b="0" i="1" lang="ja-JP" sz="1600" spc="-1" strike="noStrike">
                <a:solidFill>
                  <a:srgbClr val="0070c0"/>
                </a:solidFill>
                <a:latin typeface="Calibri"/>
              </a:rPr>
              <a:t>’</a:t>
            </a:r>
            <a:r>
              <a:rPr b="0" i="1" lang="en-US" sz="1600" spc="-1" strike="noStrike">
                <a:solidFill>
                  <a:srgbClr val="0070c0"/>
                </a:solidFill>
                <a:latin typeface="Calibri"/>
              </a:rPr>
              <a:t>s Cities 2008/2009: Harmonious Cities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, Report ISBN: 978-92-1-132010-7</a:t>
            </a:r>
            <a:endParaRPr b="0" lang="en-US" sz="1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Walton JS, El-Haram M, Castillo NH, Horner RMW, Price ADF, Hardcastle C. 2005. Integrated assessment of urban sustainability. </a:t>
            </a:r>
            <a:r>
              <a:rPr b="0" i="1" lang="en-US" sz="1600" spc="-1" strike="noStrike">
                <a:solidFill>
                  <a:srgbClr val="0070c0"/>
                </a:solidFill>
                <a:latin typeface="Calibri"/>
              </a:rPr>
              <a:t>Engineering sustainability,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158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, pp 57-66</a:t>
            </a:r>
            <a:endParaRPr b="0" lang="en-US" sz="1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0B5C-0DE8-4FA5-8287-B8FC07275A56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724" name="Picture 6" descr="Glasgow_Caledonian_R#60E79E.jpg"/>
            <p:cNvPicPr/>
            <p:nvPr/>
          </p:nvPicPr>
          <p:blipFill>
            <a:blip r:embed="rId2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2" descr=""/>
            <p:cNvPicPr/>
            <p:nvPr/>
          </p:nvPicPr>
          <p:blipFill>
            <a:blip r:embed="rId3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4" descr="NPP_logo_statement.gif"/>
            <p:cNvPicPr/>
            <p:nvPr/>
          </p:nvPicPr>
          <p:blipFill>
            <a:blip r:embed="rId4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5" descr="EUlogo.jpg"/>
            <p:cNvPicPr/>
            <p:nvPr/>
          </p:nvPicPr>
          <p:blipFill>
            <a:blip r:embed="rId5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Future Footprints – Glasgow 26 Nov ‘13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hat are the resource limits: UK and global outlook?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hat will the future balance of materials look like?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Volume</a:t>
            </a:r>
            <a:endParaRPr b="0" lang="en-US" sz="24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Value</a:t>
            </a:r>
            <a:endParaRPr b="0" lang="en-US" sz="2400" spc="-1" strike="noStrike">
              <a:solidFill>
                <a:srgbClr val="00b0f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Appropriate use</a:t>
            </a:r>
            <a:endParaRPr b="0" lang="en-US" sz="2400" spc="-1" strike="noStrike">
              <a:solidFill>
                <a:srgbClr val="00b0f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hat re-use options available  / likely to develop?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ocial and ethical considerations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How can resource efficiency be measured and best practice encouraged?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xamples of current best practice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</p:txBody>
      </p:sp>
      <p:grpSp>
        <p:nvGrpSpPr>
          <p:cNvPr id="359" name="Group 14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360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EF80-9712-45DB-8623-E08D79CE1D59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PG on ABE</a:t>
            </a:r>
            <a:endParaRPr b="1" lang="en-US" sz="40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38cae"/>
                </a:solidFill>
                <a:latin typeface="Calibri"/>
              </a:rPr>
              <a:t>Cross Party Group on Architecture and the Built Environment</a:t>
            </a:r>
            <a:endParaRPr b="1" lang="en-US" sz="32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NEES sponsored a meeting of the CPG-ABE at The Scottish Parliament on 27</a:t>
            </a:r>
            <a:r>
              <a:rPr b="0" lang="en-GB" sz="24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 Nov 2013</a:t>
            </a:r>
            <a:endParaRPr b="0" lang="en-US" sz="24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Supported by the Royal Incorporation of Architects in Scotland (RIAS) and sponsored by Mike MacKenzie, MSP for the Highlands and Islands</a:t>
            </a:r>
            <a:endParaRPr b="0" lang="en-US" sz="24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Speakers: Rohinton Emmanuel, GCU; Keith Baker, GCU; Sita Goudie, Enviroglass (NEES BP); Gary Newman, ASBP; Richard Atkins, RIAS / GCU; and John Easton, SUSTaim (consultant to NEES / Enviroglass) </a:t>
            </a:r>
            <a:endParaRPr b="0" lang="en-US" sz="24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Workshop for Scottish BPs held before the meeting </a:t>
            </a:r>
            <a:endParaRPr b="0" lang="en-US" sz="24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Have been invited to draft a White Paper </a:t>
            </a:r>
            <a:endParaRPr b="0" lang="en-US" sz="24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7CF-EC9F-4BC6-844C-C929D79AFB29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4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370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Photo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7DBB-1C38-4F93-9774-6AE8180226E6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C:\Users\kba6\Desktop\NEES\Cross Party Group event\Photos from CPG event\P1040232.JPG"/>
          <p:cNvPicPr/>
          <p:nvPr/>
        </p:nvPicPr>
        <p:blipFill>
          <a:blip r:embed="rId1"/>
          <a:stretch/>
        </p:blipFill>
        <p:spPr>
          <a:xfrm>
            <a:off x="504720" y="3941640"/>
            <a:ext cx="3059280" cy="2295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C:\Users\kba6\Desktop\NEES\Cross Party Group event\Photos from CPG event\P1040237.JPG"/>
          <p:cNvPicPr/>
          <p:nvPr/>
        </p:nvPicPr>
        <p:blipFill>
          <a:blip r:embed="rId2"/>
          <a:stretch/>
        </p:blipFill>
        <p:spPr>
          <a:xfrm>
            <a:off x="4932360" y="1206360"/>
            <a:ext cx="3538440" cy="2654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C:\Users\kba6\Desktop\NEES\Cross Party Group event\Photos from CPG event\P1040226.JPG"/>
          <p:cNvPicPr/>
          <p:nvPr/>
        </p:nvPicPr>
        <p:blipFill>
          <a:blip r:embed="rId3"/>
          <a:stretch/>
        </p:blipFill>
        <p:spPr>
          <a:xfrm>
            <a:off x="3635280" y="3962520"/>
            <a:ext cx="1706760" cy="2274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:\Users\kba6\Desktop\NEES\Cross Party Group event\Photos from CPG event\P1040219.JPG"/>
          <p:cNvPicPr/>
          <p:nvPr/>
        </p:nvPicPr>
        <p:blipFill>
          <a:blip r:embed="rId4"/>
          <a:stretch/>
        </p:blipFill>
        <p:spPr>
          <a:xfrm>
            <a:off x="5435640" y="3941640"/>
            <a:ext cx="3060720" cy="229572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14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381" name="Picture 6" descr="Glasgow_Caledonian_R#60E79E.jpg"/>
            <p:cNvPicPr/>
            <p:nvPr/>
          </p:nvPicPr>
          <p:blipFill>
            <a:blip r:embed="rId5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2" descr=""/>
            <p:cNvPicPr/>
            <p:nvPr/>
          </p:nvPicPr>
          <p:blipFill>
            <a:blip r:embed="rId6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NPP_logo_statement.gif"/>
            <p:cNvPicPr/>
            <p:nvPr/>
          </p:nvPicPr>
          <p:blipFill>
            <a:blip r:embed="rId7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5" descr="EUlogo.jpg"/>
            <p:cNvPicPr/>
            <p:nvPr/>
          </p:nvPicPr>
          <p:blipFill>
            <a:blip r:embed="rId8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5" name="Picture 13" descr="051213 pictures 345.JPG"/>
          <p:cNvPicPr/>
          <p:nvPr/>
        </p:nvPicPr>
        <p:blipFill>
          <a:blip r:embed="rId9"/>
          <a:stretch/>
        </p:blipFill>
        <p:spPr>
          <a:xfrm>
            <a:off x="1332000" y="119700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Findings - Opportunitie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4360" y="1447560"/>
            <a:ext cx="808344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Consumer demand – local sourcing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Aesthetically pleasing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Culturally and architecturally sensitive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Physical properties – energy / thermal performance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Healthier for occupants and installers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Lower carbon and resource footprints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Significant potential to support social and economic regeneration - particularly in deprived areas</a:t>
            </a:r>
            <a:endParaRPr b="0" lang="en-US" sz="28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7EFA-6C17-4C09-8A6B-4FDC8A4454C0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390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Findings - Barrier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70c0"/>
                </a:solidFill>
                <a:latin typeface="Calibri"/>
              </a:rPr>
              <a:t>No longer mass-market</a:t>
            </a:r>
            <a:endParaRPr b="0" lang="en-US" sz="30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70c0"/>
                </a:solidFill>
                <a:latin typeface="Calibri"/>
              </a:rPr>
              <a:t>Loss of traditional skills and industries</a:t>
            </a:r>
            <a:endParaRPr b="0" lang="en-US" sz="30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70c0"/>
                </a:solidFill>
                <a:latin typeface="Calibri"/>
              </a:rPr>
              <a:t>Disincentivised by some standards, regulations and procurement practices</a:t>
            </a:r>
            <a:endParaRPr b="0" lang="en-US" sz="30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70c0"/>
                </a:solidFill>
                <a:latin typeface="Calibri"/>
              </a:rPr>
              <a:t>Lack of capacity amongst producers and users</a:t>
            </a:r>
            <a:endParaRPr b="0" lang="en-US" sz="30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70c0"/>
                </a:solidFill>
                <a:latin typeface="Calibri"/>
              </a:rPr>
              <a:t>Lack of education amongst architects, developers and builders</a:t>
            </a:r>
            <a:endParaRPr b="0" lang="en-US" sz="30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70c0"/>
                </a:solidFill>
                <a:latin typeface="Calibri"/>
              </a:rPr>
              <a:t>Litigiousness of some competitors</a:t>
            </a:r>
            <a:endParaRPr b="0" lang="en-US" sz="30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b0f0"/>
                </a:solidFill>
                <a:latin typeface="Calibri"/>
              </a:rPr>
              <a:t>Claims need complex (and expensive) verification</a:t>
            </a:r>
            <a:endParaRPr b="0" lang="en-US" sz="2600" spc="-1" strike="noStrike">
              <a:solidFill>
                <a:srgbClr val="00b0f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3E2B-E7B6-438A-A5DE-089AD9A2AF86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4"/>
          <p:cNvGrpSpPr/>
          <p:nvPr/>
        </p:nvGrpSpPr>
        <p:grpSpPr>
          <a:xfrm>
            <a:off x="108000" y="6381720"/>
            <a:ext cx="4484520" cy="366840"/>
            <a:chOff x="108000" y="6381720"/>
            <a:chExt cx="4484520" cy="366840"/>
          </a:xfrm>
        </p:grpSpPr>
        <p:pic>
          <p:nvPicPr>
            <p:cNvPr id="398" name="Picture 6" descr="Glasgow_Caledonian_R#60E79E.jpg"/>
            <p:cNvPicPr/>
            <p:nvPr/>
          </p:nvPicPr>
          <p:blipFill>
            <a:blip r:embed="rId1"/>
            <a:stretch/>
          </p:blipFill>
          <p:spPr>
            <a:xfrm>
              <a:off x="108000" y="6381720"/>
              <a:ext cx="64800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" descr=""/>
            <p:cNvPicPr/>
            <p:nvPr/>
          </p:nvPicPr>
          <p:blipFill>
            <a:blip r:embed="rId2"/>
            <a:stretch/>
          </p:blipFill>
          <p:spPr>
            <a:xfrm>
              <a:off x="897120" y="6417720"/>
              <a:ext cx="3268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" descr="NPP_logo_statement.gif"/>
            <p:cNvPicPr/>
            <p:nvPr/>
          </p:nvPicPr>
          <p:blipFill>
            <a:blip r:embed="rId3"/>
            <a:stretch/>
          </p:blipFill>
          <p:spPr>
            <a:xfrm>
              <a:off x="2016360" y="6394680"/>
              <a:ext cx="126000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5" descr="EUlogo.jpg"/>
            <p:cNvPicPr/>
            <p:nvPr/>
          </p:nvPicPr>
          <p:blipFill>
            <a:blip r:embed="rId4"/>
            <a:stretch/>
          </p:blipFill>
          <p:spPr>
            <a:xfrm>
              <a:off x="3312720" y="6467400"/>
              <a:ext cx="1279800" cy="281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6:55:03Z</dcterms:created>
  <dc:creator>Emmanuel, Rohinton</dc:creator>
  <dc:description/>
  <dc:language>en-US</dc:language>
  <cp:lastModifiedBy>Jose  Ospina</cp:lastModifiedBy>
  <dcterms:modified xsi:type="dcterms:W3CDTF">2014-03-31T14:50:30Z</dcterms:modified>
  <cp:revision>76</cp:revision>
  <dc:subject/>
  <dc:title>CLIMATE CHANGE AND CARBON MANAGEMENT</dc:title>
</cp:coreProperties>
</file>