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3EB-E2F2-4AFF-8F29-199A13D6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ED7-CC13-4431-BBF8-6F73BDF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262-E97E-41D0-BBFD-ADB1A466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950-D003-4E0F-99CC-D3CE4EEF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295-2516-4540-A467-F360848C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608-85D4-4780-BD11-6C5918DD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A15-DAE3-48C1-BA01-590ACADD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F80-5C56-4F8C-8166-DFAF9F18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57D-5D4E-4364-8865-A9F99988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CE3-4830-4758-A986-506713EA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90F-6FD6-487F-9B4A-2B331D19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6A8-ABFB-4CC8-9AC5-888668C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5F1F-6119-40AA-8F98-A46F628E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1447920" y="9144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Kievit-Bold"/>
              </a:rPr>
              <a:t>A new home for Elixxchel L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7802280" y="4698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2052720" y="35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5097600" y="297324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625320" y="620640"/>
          <a:ext cx="6981840" cy="435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5320" y="620640"/>
                    <a:ext cx="698184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5"/>
          <p:cNvGrpSpPr/>
          <p:nvPr/>
        </p:nvGrpSpPr>
        <p:grpSpPr>
          <a:xfrm>
            <a:off x="1384200" y="317520"/>
            <a:ext cx="911160" cy="1019160"/>
            <a:chOff x="1384200" y="317520"/>
            <a:chExt cx="911160" cy="1019160"/>
          </a:xfrm>
        </p:grpSpPr>
        <p:sp>
          <p:nvSpPr>
            <p:cNvPr id="50" name="Rectangle 6"/>
            <p:cNvSpPr/>
            <p:nvPr/>
          </p:nvSpPr>
          <p:spPr>
            <a:xfrm>
              <a:off x="1384200" y="317520"/>
              <a:ext cx="911160" cy="1019160"/>
            </a:xfrm>
            <a:prstGeom prst="rect">
              <a:avLst/>
            </a:prstGeom>
            <a:solidFill>
              <a:srgbClr val="cccc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1492920" y="438840"/>
              <a:ext cx="700560" cy="783720"/>
            </a:xfrm>
            <a:prstGeom prst="rect">
              <a:avLst/>
            </a:prstGeom>
            <a:solidFill>
              <a:srgbClr val="004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AI Prac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8"/>
          <p:cNvSpPr/>
          <p:nvPr/>
        </p:nvSpPr>
        <p:spPr>
          <a:xfrm>
            <a:off x="4543560" y="1911240"/>
            <a:ext cx="7110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ievit-Bold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5407200" y="1911240"/>
            <a:ext cx="2160360" cy="11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1266840" y="1835280"/>
            <a:ext cx="3305160" cy="1079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1508040" y="1076400"/>
            <a:ext cx="711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ievit-Bold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003680" y="327672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99"/>
                </a:solidFill>
                <a:latin typeface="Bookman Old Style"/>
              </a:rPr>
              <a:t>CP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1"/>
          <p:cNvSpPr/>
          <p:nvPr/>
        </p:nvSpPr>
        <p:spPr>
          <a:xfrm>
            <a:off x="1528920" y="2746440"/>
            <a:ext cx="106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2" descr="LogoNEES"/>
          <p:cNvPicPr/>
          <p:nvPr/>
        </p:nvPicPr>
        <p:blipFill>
          <a:blip r:embed="rId6"/>
          <a:stretch/>
        </p:blipFill>
        <p:spPr>
          <a:xfrm>
            <a:off x="1157400" y="4568760"/>
            <a:ext cx="1303200" cy="1289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3"/>
          <p:cNvSpPr/>
          <p:nvPr/>
        </p:nvSpPr>
        <p:spPr>
          <a:xfrm>
            <a:off x="1528920" y="3808440"/>
            <a:ext cx="106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4632480" y="42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"/>
          <p:cNvPicPr/>
          <p:nvPr/>
        </p:nvPicPr>
        <p:blipFill>
          <a:blip r:embed="rId4"/>
          <a:stretch/>
        </p:blipFill>
        <p:spPr>
          <a:xfrm>
            <a:off x="7826400" y="695160"/>
            <a:ext cx="760320" cy="379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6"/>
          <p:cNvSpPr/>
          <p:nvPr/>
        </p:nvSpPr>
        <p:spPr>
          <a:xfrm>
            <a:off x="6765840" y="557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at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8512560" y="5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7" descr="rural-studio-carpet-tiles"/>
          <p:cNvPicPr/>
          <p:nvPr/>
        </p:nvPicPr>
        <p:blipFill>
          <a:blip r:embed="rId5"/>
          <a:stretch/>
        </p:blipFill>
        <p:spPr>
          <a:xfrm>
            <a:off x="701640" y="644400"/>
            <a:ext cx="6072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rcRect l="85" t="1707" r="-79" b="2036"/>
          <a:stretch/>
        </p:blipFill>
        <p:spPr>
          <a:xfrm>
            <a:off x="777960" y="620640"/>
            <a:ext cx="5919840" cy="4629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6697800" y="544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levance as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ducational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125360" y="1000080"/>
            <a:ext cx="1143000" cy="762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L Frutiger Light"/>
              </a:rPr>
              <a:t>Continual Profess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L Frutiger Light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141560" y="1766880"/>
            <a:ext cx="3354120" cy="1519200"/>
          </a:xfrm>
          <a:prstGeom prst="rect">
            <a:avLst/>
          </a:prstGeom>
          <a:solidFill>
            <a:srgbClr val="e5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 Frutiger Light"/>
              </a:rPr>
              <a:t>Specialists product seminar</a:t>
            </a:r>
            <a:r>
              <a:rPr b="0" lang="en-GB" sz="1400" spc="-1" strike="noStrike">
                <a:solidFill>
                  <a:srgbClr val="000000"/>
                </a:solidFill>
                <a:latin typeface="L Frutiger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 Frutiger Light"/>
              </a:rPr>
              <a:t>Information session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 Frutiger Light"/>
              </a:rPr>
              <a:t>participatory demonstration /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763400" y="3938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2052720" y="35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259080" y="1000080"/>
            <a:ext cx="1219320" cy="762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L Frutiger Light"/>
              </a:rPr>
              <a:t>Summer 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L Frutiger Light"/>
              </a:rPr>
              <a:t>W’k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6242040" y="3352680"/>
            <a:ext cx="1066680" cy="758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0c0c0"/>
                </a:solidFill>
                <a:latin typeface="L Frutiger Light"/>
              </a:rPr>
              <a:t>C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Facilitation &amp;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 flipH="1">
            <a:off x="624168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6242040" y="4111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2"/>
          <p:cNvSpPr/>
          <p:nvPr/>
        </p:nvSpPr>
        <p:spPr>
          <a:xfrm>
            <a:off x="1141560" y="176688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3"/>
          <p:cNvSpPr/>
          <p:nvPr/>
        </p:nvSpPr>
        <p:spPr>
          <a:xfrm>
            <a:off x="1141560" y="176688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1141560" y="328608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5"/>
          <p:cNvSpPr/>
          <p:nvPr/>
        </p:nvSpPr>
        <p:spPr>
          <a:xfrm flipV="1">
            <a:off x="4481640" y="176688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>
            <a:off x="6242040" y="335268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7304040" y="335268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567320" y="5022720"/>
            <a:ext cx="1066680" cy="833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L Frutiger Light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L Frutiger Light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L Frutiger Light"/>
              </a:rPr>
              <a:t>existing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25360" y="1000080"/>
            <a:ext cx="1143000" cy="762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Continual Profess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141560" y="1766880"/>
            <a:ext cx="3354120" cy="1519200"/>
          </a:xfrm>
          <a:prstGeom prst="rect">
            <a:avLst/>
          </a:prstGeom>
          <a:solidFill>
            <a:srgbClr val="e5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L Frutiger Light"/>
              </a:rPr>
              <a:t>Specialists product seminar</a:t>
            </a:r>
            <a:r>
              <a:rPr b="0" lang="en-GB" sz="1400" spc="-1" strike="noStrike">
                <a:solidFill>
                  <a:srgbClr val="c0c0c0"/>
                </a:solidFill>
                <a:latin typeface="L Frutiger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L Frutiger Light"/>
              </a:rPr>
              <a:t>Information session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L Frutiger Light"/>
              </a:rPr>
              <a:t>participatory demonstration /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c0c0c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763400" y="3938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052720" y="35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576680" y="3746520"/>
            <a:ext cx="1062000" cy="12906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ary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urni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3259080" y="1000080"/>
            <a:ext cx="1219320" cy="762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Summer 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W’k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6242040" y="3352680"/>
            <a:ext cx="1066680" cy="758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0c0c0"/>
                </a:solidFill>
                <a:latin typeface="L Frutiger Light"/>
              </a:rPr>
              <a:t>C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Facilitation &amp;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 flipH="1">
            <a:off x="624168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6242040" y="4111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141560" y="176688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1141560" y="176688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1141560" y="328608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 flipV="1">
            <a:off x="4481640" y="176688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242040" y="335268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7304040" y="335268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67320" y="5022720"/>
            <a:ext cx="1066680" cy="833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0c0c0"/>
                </a:solidFill>
                <a:latin typeface="L Frutiger Light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0c0c0"/>
                </a:solidFill>
                <a:latin typeface="L Frutiger Light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c0c0c0"/>
                </a:solidFill>
                <a:latin typeface="L Frutiger Light"/>
              </a:rPr>
              <a:t>existing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125360" y="1000080"/>
            <a:ext cx="1143000" cy="762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Continual Profess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141560" y="1766880"/>
            <a:ext cx="3354120" cy="1519200"/>
          </a:xfrm>
          <a:prstGeom prst="rect">
            <a:avLst/>
          </a:prstGeom>
          <a:solidFill>
            <a:srgbClr val="e5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L Frutiger Light"/>
              </a:rPr>
              <a:t>Specialists product seminar</a:t>
            </a:r>
            <a:r>
              <a:rPr b="0" lang="en-GB" sz="1400" spc="-1" strike="noStrike">
                <a:solidFill>
                  <a:srgbClr val="c0c0c0"/>
                </a:solidFill>
                <a:latin typeface="L Frutiger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L Frutiger Light"/>
              </a:rPr>
              <a:t>Information session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L Frutiger Light"/>
              </a:rPr>
              <a:t>participatory demonstration /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c0c0c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102280" y="915840"/>
            <a:ext cx="1595520" cy="2057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record of site work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CAE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open access web 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763400" y="3938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052720" y="35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576680" y="3746520"/>
            <a:ext cx="1062000" cy="12906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Arial"/>
              </a:rPr>
              <a:t>Diary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Arial"/>
              </a:rPr>
              <a:t>Furni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3259080" y="1000080"/>
            <a:ext cx="1219320" cy="762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Summer 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W’k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242040" y="3352680"/>
            <a:ext cx="1066680" cy="758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0c0c0"/>
                </a:solidFill>
                <a:latin typeface="L Frutiger Light"/>
              </a:rPr>
              <a:t>C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c0c0c0"/>
                </a:solidFill>
                <a:latin typeface="L Frutiger Light"/>
              </a:rPr>
              <a:t>Facilitation &amp;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5097600" y="9158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5097600" y="29732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 flipV="1">
            <a:off x="6697800" y="91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7"/>
          <p:cNvSpPr/>
          <p:nvPr/>
        </p:nvSpPr>
        <p:spPr>
          <a:xfrm flipH="1">
            <a:off x="624168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6242040" y="4111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141560" y="176688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1141560" y="176688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1141560" y="328608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V="1">
            <a:off x="4481640" y="176688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6242040" y="335268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7304040" y="335268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 flipH="1">
            <a:off x="5103720" y="923760"/>
            <a:ext cx="159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701640" y="544680"/>
            <a:ext cx="4857840" cy="4933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4572000" y="696960"/>
            <a:ext cx="3643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673320" y="469800"/>
            <a:ext cx="20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Con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45960" y="5791320"/>
            <a:ext cx="1101960" cy="36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1814400" y="5943600"/>
            <a:ext cx="1922400" cy="17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7310520" y="5451480"/>
            <a:ext cx="1299960" cy="720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7802280" y="4698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2052720" y="35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5097600" y="297324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6" descr="DSC07325"/>
          <p:cNvPicPr/>
          <p:nvPr/>
        </p:nvPicPr>
        <p:blipFill>
          <a:blip r:embed="rId4"/>
          <a:stretch/>
        </p:blipFill>
        <p:spPr>
          <a:xfrm>
            <a:off x="701640" y="582480"/>
            <a:ext cx="6526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6:26:36Z</dcterms:created>
  <dc:creator>user</dc:creator>
  <dc:description/>
  <dc:language>en-US</dc:language>
  <cp:lastModifiedBy>fitzanderin</cp:lastModifiedBy>
  <dcterms:modified xsi:type="dcterms:W3CDTF">2013-06-25T12:44:37Z</dcterms:modified>
  <cp:revision>57</cp:revision>
  <dc:subject/>
  <dc:title>Slide 1</dc:title>
</cp:coreProperties>
</file>