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022-2B40-46CC-876D-D62C6DA4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F60-2D93-48BC-B6A7-3F5BBFB92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F064-739B-4ACF-A41A-FB7FB6B0E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4C9B-2850-40B7-9667-28BE51A4D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5DB1-3E3C-4BE2-85AF-3FD530BC5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3A5-4A75-4EDA-B1C3-54A20903C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DA7D-9013-49AE-BD73-844738911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F795-6ECE-407D-82F8-622C576CF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E70C-6E68-40AB-AF04-861A5845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19D-F4C9-4090-84A3-C7BD8CFE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460-53C6-4694-B5B7-CF7FF43B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94F-16C1-4794-96D9-232C5E1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160-1BC1-4648-8142-3FDB35E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9A6-AC86-446B-B9AA-8BFB44B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776-FF06-443B-8917-B6645DB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5B8-123F-4C5A-9EEF-ADFE392C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DEF-7C5C-4DAD-B9BE-9A256990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174-0723-4497-A25F-353069E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9E4-0F23-457B-B617-6FC391AE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ED4-C285-437F-A5FC-AF786984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F8C-5C83-4F43-B27D-C66C8E53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C41A-E915-4BD8-9F89-807D4528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E2E5-DA35-4BA6-AA29-F98BF50E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726-6050-4AD2-B7BA-596EC39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1686-E49A-4418-A6D9-234C4F62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46EE-E0B7-454B-9FAD-5CAA371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488E-A8E3-4EB6-AA7A-25341C21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3821-E5CD-4CD7-A117-C320E5D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829E-6D24-4A85-8AB6-47C5387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012A-4C7F-456B-869E-59085ABD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F88-D35D-46CB-806E-D501BDE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45F-6B65-4BBB-8FA1-F259A4C1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886-67E9-4FD8-BAC2-0130CE24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sosceles Triangle 6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Isosceles Triangle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6EE-6DAD-4F5A-9097-5EF9BDE78E43}" type="slidenum"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traight Connector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8ca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0A9D-C231-467E-8D5C-FECBE899D279}" type="slidenum"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ohinton.Emmanuel@gcu.ac.uk" TargetMode="External"/><Relationship Id="rId2" Type="http://schemas.openxmlformats.org/officeDocument/2006/relationships/hyperlink" Target="mailto:Craig.Thomson@gcu.ac.uk" TargetMode="External"/><Relationship Id="rId3" Type="http://schemas.openxmlformats.org/officeDocument/2006/relationships/hyperlink" Target="mailto:Keith.Baker@gcu.ac.uk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3716280"/>
            <a:ext cx="73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Natural Energy Efficiency and Sustainability 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Calibri"/>
              </a:rPr>
              <a:t>(NEES)</a:t>
            </a:r>
            <a:br>
              <a:rPr sz="2400"/>
            </a:b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in Existing Buildings: </a:t>
            </a:r>
            <a:br>
              <a:rPr sz="2000"/>
            </a:br>
            <a:r>
              <a:rPr b="1" lang="en-GB" sz="2000" spc="-1" strike="noStrike">
                <a:solidFill>
                  <a:srgbClr val="0070c0"/>
                </a:solidFill>
                <a:latin typeface="Calibri"/>
              </a:rPr>
              <a:t>WP 2 Determining Products, Processes, Opportunities &amp; Barriers </a:t>
            </a:r>
            <a:endParaRPr b="1" lang="en-US" sz="20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7138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Project Meeting No 4, New Castle, Co Down</a:t>
            </a: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b0f0"/>
                </a:solidFill>
                <a:latin typeface="Calibri"/>
              </a:rPr>
              <a:t> 16-11-2012</a:t>
            </a:r>
            <a:endParaRPr b="0" lang="en-US" sz="2200" spc="-1" strike="noStrike">
              <a:solidFill>
                <a:srgbClr val="0070c0"/>
              </a:solidFill>
              <a:latin typeface="Calibri"/>
            </a:endParaRPr>
          </a:p>
        </p:txBody>
      </p:sp>
      <p:pic>
        <p:nvPicPr>
          <p:cNvPr id="343" name="Picture 4" descr="NPP_logo_statement.gif"/>
          <p:cNvPicPr/>
          <p:nvPr/>
        </p:nvPicPr>
        <p:blipFill>
          <a:blip r:embed="rId1"/>
          <a:stretch/>
        </p:blipFill>
        <p:spPr>
          <a:xfrm>
            <a:off x="34920" y="6021360"/>
            <a:ext cx="2763720" cy="765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EUlogo.jpg"/>
          <p:cNvPicPr/>
          <p:nvPr/>
        </p:nvPicPr>
        <p:blipFill>
          <a:blip r:embed="rId2"/>
          <a:stretch/>
        </p:blipFill>
        <p:spPr>
          <a:xfrm>
            <a:off x="3335400" y="6021360"/>
            <a:ext cx="3612960" cy="79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Glasgow_Caledonian_R#60E79E.jpg"/>
          <p:cNvPicPr/>
          <p:nvPr/>
        </p:nvPicPr>
        <p:blipFill>
          <a:blip r:embed="rId3"/>
          <a:stretch/>
        </p:blipFill>
        <p:spPr>
          <a:xfrm>
            <a:off x="7524720" y="6021360"/>
            <a:ext cx="1401840" cy="792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"/>
          <p:cNvPicPr/>
          <p:nvPr/>
        </p:nvPicPr>
        <p:blipFill>
          <a:blip r:embed="rId4"/>
          <a:stretch/>
        </p:blipFill>
        <p:spPr>
          <a:xfrm>
            <a:off x="7534440" y="0"/>
            <a:ext cx="1609560" cy="1590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Future calls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Best Practice Selection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roject proposal suggests up to 15 BP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e will certainly need Call 3, perhaps also Call 4?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Call 3 could be Sweden-based (?) to encourage greater participation from Nordic countri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Call 4 to be decided if needed?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e now have 6 BPs (5 products and 1 service); need to keep the mix right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Geographical coverage issues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5F3-A3D5-4B0B-9074-A8CB5A58CA99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16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GCU step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Complete Call 2 and BP selection (end Feb ‘13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dentify supply/demand issues for BPs relevant to Scottish NPP regions (Apr ‘13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dentify and facilitate ‘Demonstrator Projects’ (negotiations with Aps underway) – summer 2013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romotional events – promoting BPS in Scottish NPP regions (late 2013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eaching/Practice Note preparation and dissemination (rest of the project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70D2-430B-4745-8AD4-99A127A95816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0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26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1260360" y="3789360"/>
            <a:ext cx="7632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r Rohinton Emmanuel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r Craig Thomso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Dr Keith B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School of Built &amp; Natural Environment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lasgow Caledonia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70 Cowcaddens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Glasgow G4 0B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Tel: 0141 331 3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898560"/>
                <a:tab algn="l" pos="1249200"/>
                <a:tab algn="l" pos="1616040"/>
                <a:tab algn="l" pos="1965240"/>
                <a:tab algn="l" pos="2332080"/>
                <a:tab algn="l" pos="2697120"/>
                <a:tab algn="l" pos="3048120"/>
                <a:tab algn="l" pos="3413160"/>
                <a:tab algn="l" pos="3763800"/>
                <a:tab algn="l" pos="4130640"/>
                <a:tab algn="l" pos="4479840"/>
                <a:tab algn="l" pos="4846680"/>
                <a:tab algn="l" pos="5105520"/>
                <a:tab algn="l" pos="5380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Email: </a:t>
            </a:r>
            <a:r>
              <a:rPr b="0" lang="en-GB" sz="1200" spc="-1" strike="noStrike" u="sng">
                <a:solidFill>
                  <a:srgbClr val="b292ca"/>
                </a:solidFill>
                <a:uFillTx/>
                <a:latin typeface="Calibri"/>
                <a:ea typeface="Arial"/>
                <a:hlinkClick r:id="rId1"/>
              </a:rPr>
              <a:t>Rohinton.Emmanuel@gcu.ac.uk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GB" sz="1200" spc="-1" strike="noStrike" u="sng">
                <a:solidFill>
                  <a:srgbClr val="b292ca"/>
                </a:solidFill>
                <a:uFillTx/>
                <a:latin typeface="Calibri"/>
                <a:ea typeface="Arial"/>
                <a:hlinkClick r:id="rId2"/>
              </a:rPr>
              <a:t>Craig.Thomson@gcu.ac.uk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200" spc="-1" strike="noStrike" u="sng">
                <a:solidFill>
                  <a:srgbClr val="b292ca"/>
                </a:solidFill>
                <a:uFillTx/>
                <a:latin typeface="Calibri"/>
                <a:ea typeface="Arial"/>
                <a:hlinkClick r:id="rId3"/>
              </a:rPr>
              <a:t>Keith.Baker@gcu.ac.uk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1187280" y="3141720"/>
            <a:ext cx="33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urther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Outline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Calibri"/>
              </a:rPr>
              <a:t>Report on Indicators and Evaluation Proces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Calibri"/>
              </a:rPr>
              <a:t>Report of NEES Best Practice (BP) Call 1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Calibri"/>
              </a:rPr>
              <a:t>Report on NEES BP Call 2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Calibri"/>
              </a:rPr>
              <a:t>Future Calls and Expert Panel Meeting &amp; Evaluat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70c0"/>
                </a:solidFill>
                <a:latin typeface="Calibri"/>
              </a:rPr>
              <a:t>Next Step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765D-6541-4308-85E2-0CD8AD72875A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52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WP 2 Key Activitie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Develop and define headline indicators 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Select and collate NEES product, processes and service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Establish the supply and demand for NEES  product, processes and services across the partner regions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dentify 2-3 examples of best practice from each region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1D93-2DFF-41DE-84CB-AE93036014D8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0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61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dicators &amp; Evaluation Process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The process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Potential ‘NEES’ manufacturers / service providers register on NEES website using a simple PQQ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f they are ‘Natural’ and for ‘Energy Efficiency’ they get send either ‘product’ or ‘service’ questionnaire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Questionnaire submissions are collated to sent to an ‘Expert Panel’ for evaluation and selection of ‘Best Practice’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he process is repeated every 6 months or so until a sufficient number of ‘Best Practices from the NPP are identified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DACA-47F8-4A1B-8EDB-A4E067888762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0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71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Indicators (Questionnaire Survey)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50450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28 questions covering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Demographic info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Key criteria info (‘Natural’ or recycled, contribution to energy efficiency, sustainability criteria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Barriers and opportunitie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Market/cost/enterprise info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Call 1: 01 Jun to 31 Jul 2012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27 PQQ successes leading to 16 full questionnaire submissions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6 submissions selected as best practices (5 from Ireland + 1 Scotland)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2102-997F-462B-8942-75BB0718424E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5378400" y="1268280"/>
            <a:ext cx="3657600" cy="488628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11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81" name="Picture 10" descr="NPP_logo_statement.gif"/>
            <p:cNvPicPr/>
            <p:nvPr/>
          </p:nvPicPr>
          <p:blipFill>
            <a:blip r:embed="rId2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11" descr="EUlogo.jpg"/>
            <p:cNvPicPr/>
            <p:nvPr/>
          </p:nvPicPr>
          <p:blipFill>
            <a:blip r:embed="rId3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4" descr="Glasgow_Caledonian_R#60E79E.jpg"/>
            <p:cNvPicPr/>
            <p:nvPr/>
          </p:nvPicPr>
          <p:blipFill>
            <a:blip r:embed="rId4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" descr=""/>
            <p:cNvPicPr/>
            <p:nvPr/>
          </p:nvPicPr>
          <p:blipFill>
            <a:blip r:embed="rId5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Experience so far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Questionnaire has been revised and simplified, taking into account the lessons from Call 1 and comments from the expert panel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Questionnaire now matches the Expert Panel selection criteria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Resource efficienc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nvironment &amp; health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Sustainabilit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Enterprise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b0f0"/>
                </a:solidFill>
                <a:latin typeface="Calibri"/>
              </a:rPr>
              <a:t>Scalabilty</a:t>
            </a:r>
            <a:endParaRPr b="0" lang="en-US" sz="2300" spc="-1" strike="noStrike">
              <a:solidFill>
                <a:srgbClr val="00b0f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Two versions (Products &amp; Services) developed to facilitate easy entry of both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FB4-23F1-4AA4-B12C-BDAA4BA58791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0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390" name="Picture 10" descr="NPP_logo_statement.gif"/>
            <p:cNvPicPr/>
            <p:nvPr/>
          </p:nvPicPr>
          <p:blipFill>
            <a:blip r:embed="rId1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1" descr="EUlogo.jpg"/>
            <p:cNvPicPr/>
            <p:nvPr/>
          </p:nvPicPr>
          <p:blipFill>
            <a:blip r:embed="rId2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14" descr="Glasgow_Caledonian_R#60E79E.jpg"/>
            <p:cNvPicPr/>
            <p:nvPr/>
          </p:nvPicPr>
          <p:blipFill>
            <a:blip r:embed="rId3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2" descr=""/>
            <p:cNvPicPr/>
            <p:nvPr/>
          </p:nvPicPr>
          <p:blipFill>
            <a:blip r:embed="rId4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Best Practice Call 2</a:t>
            </a:r>
            <a:endParaRPr b="1" lang="en-US" sz="3200" spc="-1" strike="noStrike">
              <a:solidFill>
                <a:srgbClr val="638cae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8cae"/>
                </a:solidFill>
                <a:latin typeface="Calibri"/>
              </a:rPr>
              <a:t>Call 2 now open!</a:t>
            </a:r>
            <a:endParaRPr b="1" lang="en-US" sz="3600" spc="-1" strike="noStrike">
              <a:solidFill>
                <a:srgbClr val="638cae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Launched the call and intro to Project at the Scottish Parliament on 27.09.2012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Initial problems with the website sorted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We will now extend it to end of Jan 2013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EP will meet in Scotland in Feb 2013 (date tba)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BP selections to be announced by end Feb ‘13</a:t>
            </a:r>
            <a:endParaRPr b="0" lang="en-US" sz="26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78672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1253-7FAF-42F5-8EEF-E7BEE0D7CEDC}" type="slidenum">
              <a:rPr b="0" lang="en-US" sz="18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4535640" y="297036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4535640" y="119700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6840360" y="1197000"/>
            <a:ext cx="2160720" cy="1619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"/>
          <p:cNvPicPr/>
          <p:nvPr/>
        </p:nvPicPr>
        <p:blipFill>
          <a:blip r:embed="rId4"/>
          <a:stretch/>
        </p:blipFill>
        <p:spPr>
          <a:xfrm>
            <a:off x="6875640" y="297036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5"/>
          <a:stretch/>
        </p:blipFill>
        <p:spPr>
          <a:xfrm>
            <a:off x="4535640" y="4689360"/>
            <a:ext cx="2160360" cy="161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6"/>
          <a:stretch/>
        </p:blipFill>
        <p:spPr>
          <a:xfrm>
            <a:off x="6877080" y="4689360"/>
            <a:ext cx="2158920" cy="161928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15"/>
          <p:cNvGrpSpPr/>
          <p:nvPr/>
        </p:nvGrpSpPr>
        <p:grpSpPr>
          <a:xfrm>
            <a:off x="3492360" y="6381720"/>
            <a:ext cx="4886640" cy="476280"/>
            <a:chOff x="3492360" y="6381720"/>
            <a:chExt cx="4886640" cy="476280"/>
          </a:xfrm>
        </p:grpSpPr>
        <p:pic>
          <p:nvPicPr>
            <p:cNvPr id="406" name="Picture 10" descr="NPP_logo_statement.gif"/>
            <p:cNvPicPr/>
            <p:nvPr/>
          </p:nvPicPr>
          <p:blipFill>
            <a:blip r:embed="rId7"/>
            <a:stretch/>
          </p:blipFill>
          <p:spPr>
            <a:xfrm>
              <a:off x="3492360" y="6381720"/>
              <a:ext cx="172224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11" descr="EUlogo.jpg"/>
            <p:cNvPicPr/>
            <p:nvPr/>
          </p:nvPicPr>
          <p:blipFill>
            <a:blip r:embed="rId8"/>
            <a:stretch/>
          </p:blipFill>
          <p:spPr>
            <a:xfrm>
              <a:off x="5503320" y="6401520"/>
              <a:ext cx="2085120" cy="4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4" descr="Glasgow_Caledonian_R#60E79E.jpg"/>
            <p:cNvPicPr/>
            <p:nvPr/>
          </p:nvPicPr>
          <p:blipFill>
            <a:blip r:embed="rId9"/>
            <a:stretch/>
          </p:blipFill>
          <p:spPr>
            <a:xfrm>
              <a:off x="7662960" y="6409440"/>
              <a:ext cx="716040" cy="40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" descr=""/>
            <p:cNvPicPr/>
            <p:nvPr/>
          </p:nvPicPr>
          <p:blipFill>
            <a:blip r:embed="rId10"/>
            <a:stretch/>
          </p:blipFill>
          <p:spPr>
            <a:xfrm>
              <a:off x="4716360" y="6382080"/>
              <a:ext cx="436680" cy="43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6:55:03Z</dcterms:created>
  <dc:creator>Emmanuel, Rohinton</dc:creator>
  <dc:description/>
  <dc:language>en-US</dc:language>
  <cp:lastModifiedBy>Rohinton Emmanuel</cp:lastModifiedBy>
  <dcterms:modified xsi:type="dcterms:W3CDTF">2012-11-08T17:39:24Z</dcterms:modified>
  <cp:revision>167</cp:revision>
  <dc:subject/>
  <dc:title>CLIMATE CHANGE AND CARBON MANAGEMENT</dc:title>
</cp:coreProperties>
</file>