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086-0878-4424-A788-370FE80CF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576-ED75-48FB-9A16-33575B463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6A6-5F27-4CBD-BD1F-3F719D068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73E-C792-4B7D-A10C-093DFC618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1084-E552-4D05-9915-9450119BE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3BEF-EFB1-4E2F-BF54-CBF9D4652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D30-0030-4081-B95F-208ED46D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EA4-596D-40A9-8E33-68053EA2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8F5-772D-439F-AAA2-C64BFF7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136-9979-4169-A398-F4B01F7D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9EE-9A24-477B-A025-F9352C5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4CC-CD98-4F63-980C-4006AD24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F2A-8245-4B67-86B1-E165FE2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4E0-8E7E-4BD5-B27A-15EE3F1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C9A-5AD8-4F0F-A2E2-66AA34D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84B-2E25-401D-98E4-99F76F2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245-5AFF-4102-9588-722DB565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650-3F44-4735-9B30-508EA68F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1FC-3539-4946-95F2-7156FD19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BF4E-6B72-4732-ADEF-2EC1FE00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AC51-075B-4E9D-8F27-41E38E79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C31-5C46-4F6C-A5DD-51AA5DC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A38F-28FE-4979-9B2D-2ACEE5AC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07C2-5BAA-410D-9422-3F4D074B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B474-87EB-46DC-AEC6-C055E0A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DC46-D799-406E-A18A-54E80F2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4E6A-8F4C-4852-AD03-48E591A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1A8-11FA-4E76-8B38-45591441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295-C0F3-4297-B82F-F6C3A7A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3CAD-2AD4-45DA-AC5A-BA2CA82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BF6-B59C-4DBA-AEBF-91F87188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A690-B9BF-4645-B035-85BBF8E0D9C5}" type="slidenum"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9356-F457-4085-801A-AB9B78634B70}" type="slidenum"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Rohinton.Emmanuel@gcu.ac.uk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3886200"/>
            <a:ext cx="73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70c0"/>
                </a:solidFill>
                <a:latin typeface="Calibri"/>
              </a:rPr>
              <a:t>Natural Energy Efficiency and Sustainability </a:t>
            </a:r>
            <a:r>
              <a:rPr b="1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(NEES)</a:t>
            </a:r>
            <a:br>
              <a:rPr sz="2600"/>
            </a:b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in Existing Buildings: WP 2 Survey Criteria</a:t>
            </a:r>
            <a:endParaRPr b="1" lang="en-US" sz="24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7138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Project Meeting No 2, Dumfries, Scotland</a:t>
            </a: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 27-10-2011</a:t>
            </a:r>
            <a:endParaRPr b="0" lang="en-US" sz="2200" spc="-1" strike="noStrike">
              <a:solidFill>
                <a:srgbClr val="0070c0"/>
              </a:solidFill>
              <a:latin typeface="Calibri"/>
            </a:endParaRPr>
          </a:p>
        </p:txBody>
      </p:sp>
      <p:pic>
        <p:nvPicPr>
          <p:cNvPr id="343" name="Picture 4" descr="NPP_logo_statement.gif"/>
          <p:cNvPicPr/>
          <p:nvPr/>
        </p:nvPicPr>
        <p:blipFill>
          <a:blip r:embed="rId1"/>
          <a:stretch/>
        </p:blipFill>
        <p:spPr>
          <a:xfrm>
            <a:off x="34920" y="6021360"/>
            <a:ext cx="2763720" cy="765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EUlogo.jpg"/>
          <p:cNvPicPr/>
          <p:nvPr/>
        </p:nvPicPr>
        <p:blipFill>
          <a:blip r:embed="rId2"/>
          <a:stretch/>
        </p:blipFill>
        <p:spPr>
          <a:xfrm>
            <a:off x="3335400" y="6021360"/>
            <a:ext cx="3612960" cy="79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Glasgow_Caledonian_R#60E79E.jpg"/>
          <p:cNvPicPr/>
          <p:nvPr/>
        </p:nvPicPr>
        <p:blipFill>
          <a:blip r:embed="rId3"/>
          <a:stretch/>
        </p:blipFill>
        <p:spPr>
          <a:xfrm>
            <a:off x="7524720" y="6021360"/>
            <a:ext cx="140184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Attributes . . .  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6680" y="1174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he purpose of the survey is to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SHORTLIST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e should therefore have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as few questions 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as possible within each criteria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e are not verifying the accuracy of data input (taken to be true at face value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he shortlist will be vetted by a ‘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Panel of Experts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’ to identify the most promising candidate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GCU will lead the development of Survey Protocols (should be agreed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TODAY!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Each partner will collect data on PPTs in their own regions using the agreed protocol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18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8F68-EBAF-4363-B5BB-59728C05E9D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P2.1 – Develop &amp; define indicators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oposed Protocols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PPT Categori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6680" y="1174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Advice and Guidanc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May wish to sub-categorise using local Green Directory categories (in the case of Scotland – SEDA)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Products 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Use categories typical of the building trades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Service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including Installers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426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27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1AD-BF50-4052-9452-3EECEDF50FC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PPT first order data collection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56680" y="1174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Company nam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Parent Compan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Location(s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Postcode (for linking to maps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Contact nam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Contact position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Number of Employees (?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el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Email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ebsit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434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35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3B1-31A9-43BD-8CDC-27A136383599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PPT Data Collection – Sample shee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pic>
        <p:nvPicPr>
          <p:cNvPr id="441" name="Object 2" descr=""/>
          <p:cNvPicPr/>
          <p:nvPr/>
        </p:nvPicPr>
        <p:blipFill>
          <a:blip r:embed="rId1"/>
          <a:stretch/>
        </p:blipFill>
        <p:spPr>
          <a:xfrm>
            <a:off x="171360" y="1197000"/>
            <a:ext cx="8288280" cy="499104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43" name="Picture 10" descr="NPP_logo_statement.gif"/>
            <p:cNvPicPr/>
            <p:nvPr/>
          </p:nvPicPr>
          <p:blipFill>
            <a:blip r:embed="rId2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1" descr="EUlogo.jpg"/>
            <p:cNvPicPr/>
            <p:nvPr/>
          </p:nvPicPr>
          <p:blipFill>
            <a:blip r:embed="rId3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4" descr="Glasgow_Caledonian_R#60E79E.jpg"/>
            <p:cNvPicPr/>
            <p:nvPr/>
          </p:nvPicPr>
          <p:blipFill>
            <a:blip r:embed="rId4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C60-A3FF-48F2-97A5-0F6DDD184F90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Natural’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pSp>
        <p:nvGrpSpPr>
          <p:cNvPr id="449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50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1AE3-EAD3-47B8-B511-085AC70D999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60480" y="1514520"/>
          <a:ext cx="7283520" cy="3929040"/>
        </p:xfrm>
        <a:graphic>
          <a:graphicData uri="http://schemas.openxmlformats.org/drawingml/2006/table">
            <a:tbl>
              <a:tblPr/>
              <a:tblGrid>
                <a:gridCol w="1835280"/>
                <a:gridCol w="5448240"/>
              </a:tblGrid>
              <a:tr h="371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aterial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Types, % volume per un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Sourc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Bioregional 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932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Design and Manufactur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% content by material. Use of organic material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28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Process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Emissions costs (details of any carbon foot-printing done), use of hazardous chemical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Us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Emissions of GHGs and pollutants during use – e.g. through degradation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Dispos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Biodegradable? Disposal options (list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Energy Efficient’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58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730-A534-4CD1-BC9A-2AA5C6E840CD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17680" y="1276200"/>
          <a:ext cx="7816680" cy="3994200"/>
        </p:xfrm>
        <a:graphic>
          <a:graphicData uri="http://schemas.openxmlformats.org/drawingml/2006/table">
            <a:tbl>
              <a:tblPr/>
              <a:tblGrid>
                <a:gridCol w="2396880"/>
                <a:gridCol w="5419800"/>
              </a:tblGrid>
              <a:tr h="481320">
                <a:tc>
                  <a:txBody>
                    <a:bodyPr lIns="54000" rIns="10800" tIns="54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Type of product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Performa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U-value / conductivity / Air-tightness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Lifespa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Ye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048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Life Cycle Cos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Frequency and cost of maintenance (€/yr, €/lifetim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4840"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omplia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108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n-NO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Building Regs, Standards – Note: Self-disclosure so the website needs a clear disclaim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10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Sustainable’ </a:t>
            </a:r>
            <a:r>
              <a:rPr b="1" lang="en-GB" sz="2800" spc="-1" strike="noStrike">
                <a:solidFill>
                  <a:srgbClr val="638cae"/>
                </a:solidFill>
                <a:latin typeface="Calibri"/>
                <a:ea typeface="Calibri"/>
              </a:rPr>
              <a:t>(22 in all)</a:t>
            </a:r>
            <a:endParaRPr b="1" lang="en-US" sz="2800" spc="-1" strike="noStrike">
              <a:solidFill>
                <a:srgbClr val="638cae"/>
              </a:solidFill>
              <a:latin typeface="Calibri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68360" y="1268280"/>
          <a:ext cx="8209080" cy="4729320"/>
        </p:xfrm>
        <a:graphic>
          <a:graphicData uri="http://schemas.openxmlformats.org/drawingml/2006/table">
            <a:tbl>
              <a:tblPr/>
              <a:tblGrid>
                <a:gridCol w="4464000"/>
                <a:gridCol w="37450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o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Init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Embodied energy / emissions (cradle to gate / sit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kgCO</a:t>
                      </a:r>
                      <a:r>
                        <a:rPr b="0" lang="en-GB" sz="2300" spc="-1" strike="noStrike" baseline="-25000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i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e</a:t>
                      </a: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/k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aintenance costs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Frequency and cost of maintenance - €/yea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Transport - during production / processing, and gate to market / si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Distance and mode (km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vailability of raw material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% of available stocks used for product / product typ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vailability of produc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Volume of available supply vs. deman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66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67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E93-3CCF-4E43-AB8C-04D16D13193B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Sustainable’ (cont’d)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68360" y="1268280"/>
          <a:ext cx="8207280" cy="4686480"/>
        </p:xfrm>
        <a:graphic>
          <a:graphicData uri="http://schemas.openxmlformats.org/drawingml/2006/table">
            <a:tbl>
              <a:tblPr/>
              <a:tblGrid>
                <a:gridCol w="2951280"/>
                <a:gridCol w="52560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92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Localis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% of product sourced and processed in the reg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Sourc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Sustainability of supply, use of local sourc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92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omplexity of fabric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Number of processing phases and locations of processing pla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432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omplexity of install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Level of disruption during installation, any notable problems / risks for install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92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Jobs / economy - exist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No staff employed – Note: Moved to Company Data?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920"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Jobs / economy - potent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3600" tIns="54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Potential for job creation (based on ?% increased take up / turnover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74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75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4AE-E779-498D-B0FB-E9AE293AD8F2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Sustainable’ (cont’d)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68360" y="1268280"/>
          <a:ext cx="7667640" cy="2132280"/>
        </p:xfrm>
        <a:graphic>
          <a:graphicData uri="http://schemas.openxmlformats.org/drawingml/2006/table">
            <a:tbl>
              <a:tblPr/>
              <a:tblGrid>
                <a:gridCol w="3887640"/>
                <a:gridCol w="37800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Skills / capacity - potent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Open answ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vailability of train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Open answ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arket penetration - curren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Turnover (volume, sale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arket penetration - potent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Open answ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82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83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507-9CCA-4B00-A0BF-B5A53CD40256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roject Synopsi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dentify and promote products, processes and technologies (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PPT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s) which aim to improve energy efficiency in existing domestic building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‘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Natural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,’ ‘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energy efficient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’ and ‘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sustainable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’ PP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Originate and are, or could be, normally accessible in the Northern Periphery Programme (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NPP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) region.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ork towards </a:t>
            </a:r>
            <a:r>
              <a:rPr b="0" lang="en-GB" sz="2600" spc="-1" strike="noStrike" u="sng">
                <a:solidFill>
                  <a:srgbClr val="0070c0"/>
                </a:solidFill>
                <a:uFillTx/>
                <a:latin typeface="Calibri"/>
              </a:rPr>
              <a:t>mainstreaming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and commercially disseminate selected PPTs in/out NPP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A2E-CDE6-41F8-99D6-6462E830AA3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50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Sustainable’ (cont’d)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68360" y="1268280"/>
          <a:ext cx="7667640" cy="3462480"/>
        </p:xfrm>
        <a:graphic>
          <a:graphicData uri="http://schemas.openxmlformats.org/drawingml/2006/table">
            <a:tbl>
              <a:tblPr/>
              <a:tblGrid>
                <a:gridCol w="3456000"/>
                <a:gridCol w="421164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48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ompeti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arket share. No of comparable competing products. Level of competition with 'conventional' produc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vailability of subsidies for product development / R&amp;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Open answ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vailability of subsidies for sales / install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Value of subsidies available for buyers / installe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90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91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EE41-CA5C-401C-84A5-8B892055B374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Draft NEES Criteria – ‘Sustainable’ (cont’d)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68360" y="1268280"/>
          <a:ext cx="7920000" cy="3813480"/>
        </p:xfrm>
        <a:graphic>
          <a:graphicData uri="http://schemas.openxmlformats.org/drawingml/2006/table">
            <a:tbl>
              <a:tblPr/>
              <a:tblGrid>
                <a:gridCol w="3570120"/>
                <a:gridCol w="43498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riter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Metric(s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3200"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Culture / Public accepta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Use of traditional materials / skills. Product fits with regional norms. Note: Now covered in Natural?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Health impacts / benefi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Any known health impacts or benefits? Note: Self-disclosur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480"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Product suited to / complements regional building styles. Compliance with conservation regul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360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Open answ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98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99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8C1C-1DD8-4AD3-AED0-C79BAD4E835F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P2.1 – Next Steps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Survey protocol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6680" y="1174680"/>
            <a:ext cx="841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Develop an online version of the Protocols –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Umeå with GCU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rial the questionnaire –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All partners 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o check onlin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est the online questionnaire with ‘dummy’ companies - 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GCU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ranslate the protocols – if needed (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Partners needing translation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) 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‘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ipe clean’ and ready a ‘Public’ version –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Umeå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Publicise / start data collection –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ALL (in our respective regions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Can we agree on timelines today?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507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508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723-A418-49EE-AE84-8018197FCEB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1260360" y="3789360"/>
            <a:ext cx="7632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 Rohinton Em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School of Built &amp; Natural Environment, Room M53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lasgow Caledonia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70 Cowcaddens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lasgow G4 0B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Tel: 0141 331 3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mail: </a:t>
            </a:r>
            <a:r>
              <a:rPr b="0" lang="en-GB" sz="1200" spc="-1" strike="noStrike" u="sng">
                <a:solidFill>
                  <a:srgbClr val="b292ca"/>
                </a:solidFill>
                <a:uFillTx/>
                <a:latin typeface="Calibri"/>
                <a:ea typeface="Arial"/>
                <a:hlinkClick r:id="rId1"/>
              </a:rPr>
              <a:t>Rohinton.Emmanuel@gcu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5"/>
          <p:cNvSpPr/>
          <p:nvPr/>
        </p:nvSpPr>
        <p:spPr>
          <a:xfrm>
            <a:off x="1187280" y="314172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urther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roject Objectiv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Map the current landscape of relevant PP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evelop comprehensive selection criteria for PP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nvestigate transferability of  selected PPTs across the NPP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evelop, monitor and evaluate demonstration projec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Support the promotion and marketing of a number (15) selected products and services that best reflect this approach and are considered most appropriate for the various market segments identified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evelop appropriate advisory and training suppor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ABC-DAA2-4E8A-9495-AE63C5B1FAE3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58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Northern Periphery Programme Region 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1A2-7F93-448F-AE16-DB08A546C5C4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65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35035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5"/>
          <p:cNvGrpSpPr/>
          <p:nvPr/>
        </p:nvGrpSpPr>
        <p:grpSpPr>
          <a:xfrm>
            <a:off x="468360" y="2492280"/>
            <a:ext cx="4608360" cy="3529080"/>
            <a:chOff x="468360" y="2492280"/>
            <a:chExt cx="4608360" cy="3529080"/>
          </a:xfrm>
        </p:grpSpPr>
        <p:pic>
          <p:nvPicPr>
            <p:cNvPr id="371" name="Picture 2" descr=""/>
            <p:cNvPicPr/>
            <p:nvPr/>
          </p:nvPicPr>
          <p:blipFill>
            <a:blip r:embed="rId5"/>
            <a:stretch/>
          </p:blipFill>
          <p:spPr>
            <a:xfrm>
              <a:off x="468360" y="2558160"/>
              <a:ext cx="4434840" cy="346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3"/>
            <p:cNvSpPr/>
            <p:nvPr/>
          </p:nvSpPr>
          <p:spPr>
            <a:xfrm>
              <a:off x="3132000" y="2492280"/>
              <a:ext cx="1944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Straight Arrow Connector 18"/>
          <p:cNvCxnSpPr/>
          <p:nvPr/>
        </p:nvCxnSpPr>
        <p:spPr>
          <a:xfrm flipV="1">
            <a:off x="3132000" y="4220640"/>
            <a:ext cx="2232720" cy="1369440"/>
          </a:xfrm>
          <a:prstGeom prst="straightConnector1">
            <a:avLst/>
          </a:prstGeom>
          <a:ln w="5724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374" name="TextBox 19"/>
          <p:cNvSpPr/>
          <p:nvPr/>
        </p:nvSpPr>
        <p:spPr>
          <a:xfrm>
            <a:off x="1908000" y="209232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PP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5867280" y="45086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PP  in Sco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roject Workflow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1 – Management &amp; Coordinat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2 – Identifying products and services, barriers and opportuniti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3 – Benchmarking best practic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4 – Transfer of best practic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5 – Demonstration projec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 6 – Support &amp; training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P7 – Awareness &amp; dissemination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AEC-9E1D-4C21-9242-596C6C415008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80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Rectangle 12"/>
          <p:cNvGrpSpPr/>
          <p:nvPr/>
        </p:nvGrpSpPr>
        <p:grpSpPr>
          <a:xfrm>
            <a:off x="487440" y="1579680"/>
            <a:ext cx="8437320" cy="1236600"/>
            <a:chOff x="487440" y="1579680"/>
            <a:chExt cx="8437320" cy="1236600"/>
          </a:xfrm>
        </p:grpSpPr>
        <p:pic>
          <p:nvPicPr>
            <p:cNvPr id="385" name="Rectangle 12" descr=""/>
            <p:cNvPicPr/>
            <p:nvPr/>
          </p:nvPicPr>
          <p:blipFill>
            <a:blip r:embed="rId4"/>
            <a:stretch/>
          </p:blipFill>
          <p:spPr>
            <a:xfrm>
              <a:off x="487440" y="1579680"/>
              <a:ext cx="84373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84360" y="1773360"/>
              <a:ext cx="79912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WP2 Timelin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2.1 Development and definition of headline indicator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arly Sep 2011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2.2 Coordinate the conduct of survey of PPTs in each partner region, and conduct a SWOT analysi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nd May 2012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2.3 Identify common bottlenecks/opportunities across NPP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nd Sep 2012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2.4 Coordinate the identification of most promising PP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nd May 2013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B29-89F9-4D8C-9BFC-2588B9DA4168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91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Rectangle 10"/>
          <p:cNvGrpSpPr/>
          <p:nvPr/>
        </p:nvGrpSpPr>
        <p:grpSpPr>
          <a:xfrm>
            <a:off x="487440" y="1073160"/>
            <a:ext cx="8437320" cy="1309680"/>
            <a:chOff x="487440" y="1073160"/>
            <a:chExt cx="8437320" cy="1309680"/>
          </a:xfrm>
        </p:grpSpPr>
        <p:pic>
          <p:nvPicPr>
            <p:cNvPr id="396" name="Rectangle 10" descr=""/>
            <p:cNvPicPr/>
            <p:nvPr/>
          </p:nvPicPr>
          <p:blipFill>
            <a:blip r:embed="rId4"/>
            <a:stretch/>
          </p:blipFill>
          <p:spPr>
            <a:xfrm>
              <a:off x="487440" y="1073160"/>
              <a:ext cx="84373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84360" y="1268280"/>
              <a:ext cx="79912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P2.1 – Develop &amp; define indicators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Key Question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6680" y="1174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hat PPT categories should we collect data for?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What are the ‘NEES’ categories that need to be included?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‘</a:t>
            </a: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NATURAL’?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‘</a:t>
            </a: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ENERGY EFFICIENT’?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‘</a:t>
            </a: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SUSTAINABLE’?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401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02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B73-2A93-4D09-91B4-8F4C5AC6523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  <a:ea typeface="Calibri"/>
              </a:rPr>
              <a:t>Attributes from Project Proposal 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56680" y="1174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ERDF projects are 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NOT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 research project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Focus is on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ENTERPRISE DEVELOPMENT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, with emphasis on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LOCAL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 economic and social empowerment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It is vital to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PROMOTE LOCAL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 and 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NEAR-TO-MARKET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 products able to enhance energy efficienc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‘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NATURAL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’ and ‘</a:t>
            </a:r>
            <a:r>
              <a:rPr b="0" lang="en-GB" sz="2300" spc="-1" strike="noStrike">
                <a:solidFill>
                  <a:srgbClr val="00b050"/>
                </a:solidFill>
                <a:latin typeface="Calibri"/>
                <a:ea typeface="Calibri"/>
              </a:rPr>
              <a:t>SUSTAINABILITY</a:t>
            </a: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’ adds our own novelt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here are many (too many?!) energy efficiency certified PPT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  <a:ea typeface="Calibri"/>
              </a:rPr>
              <a:t>THERFORE OUR FOCUS IS: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ENERGY EFFICIENCY is the  raison d’ être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‘</a:t>
            </a:r>
            <a:r>
              <a:rPr b="0" lang="en-GB" sz="2000" spc="-1" strike="noStrike">
                <a:solidFill>
                  <a:srgbClr val="727ca3"/>
                </a:solidFill>
                <a:latin typeface="Calibri"/>
                <a:ea typeface="Calibri"/>
              </a:rPr>
              <a:t>NATURAL’ and ‘SUSTAINABLE’ are the criteria</a:t>
            </a:r>
            <a:endParaRPr b="0" lang="en-US" sz="2000" spc="-1" strike="noStrike">
              <a:solidFill>
                <a:srgbClr val="727ca3"/>
              </a:solidFill>
              <a:latin typeface="Calibri"/>
            </a:endParaRPr>
          </a:p>
        </p:txBody>
      </p:sp>
      <p:grpSp>
        <p:nvGrpSpPr>
          <p:cNvPr id="409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10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6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2960" y="6401160"/>
              <a:ext cx="2085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080"/>
              <a:ext cx="716040" cy="40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19D1-02B4-4D99-80DF-715F1E2C0DB4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6:55:03Z</dcterms:created>
  <dc:creator>Emmanuel, Rohinton</dc:creator>
  <dc:description/>
  <dc:language>en-US</dc:language>
  <cp:lastModifiedBy>rem1</cp:lastModifiedBy>
  <dcterms:modified xsi:type="dcterms:W3CDTF">2011-10-26T14:39:05Z</dcterms:modified>
  <cp:revision>160</cp:revision>
  <dc:subject/>
  <dc:title>CLIMATE CHANGE AND CARBON MANAGEMENT</dc:title>
</cp:coreProperties>
</file>